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3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ftr" idx="3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 type="sldNum" idx="3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D6F-25BF-44B0-8BB7-8E4DCF1C6FE9}" type="slidenum">
              <a:rPr b="0" lang="zh-TW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3926-5007-4895-A77F-70A299032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C78-2FBD-432B-8D70-94E3DC097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61E8-7B25-45EA-89AF-AACF0D058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6C39-FB01-445A-8899-2C55C3BB5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909F-DC57-4603-AF71-E3EEEAC90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8D3F-20F0-48BF-8E3B-CE5E2F433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644-D2F3-478F-A729-AE3D8C6D0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D93-2B32-43D5-AC7F-0399C4A519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微軟正黑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080-77CE-4810-AC91-851D2A39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A28-5F61-4535-BF11-BAEE130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083CE-0125-439B-8143-382463CA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C0D3A-8E6D-44AD-8944-F720FA14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C2FEF-BEE0-4DB1-8B32-89DAC634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6C87F-8BCD-4336-8B01-2C9730CA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E92A3-102B-4FA8-8B31-1620A73D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2E95D-ECDF-4E1B-A171-88B8989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D4212-A3CF-468B-84E4-87D873E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66503-9B53-492C-93FB-1F18A346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B4A99-6D66-40D1-82F9-AA4BB721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E04AD-D7BB-4EB4-8013-1690C938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BDF-707F-4E69-ABF2-87422DAA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793AE-33C8-42ED-9E87-7C556A85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181C8-A8CA-40A9-A92C-A38EB5D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DBAED-0932-464B-8AA8-FD48DC13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8749F-F228-4CAD-A3AF-2F21B286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89EE1-26FF-4EA3-9E56-FD105C74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FA9D2-9A50-4E84-8261-F477076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8E5CB-ED50-40B3-996E-EA5B2D5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0D1F3-2481-42E6-AE74-677F9B0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6CDB6-6C3C-48E4-A9AA-8ECC546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FEEF5-11B5-4CF2-B2B1-68FC7378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EAE-1010-4D57-BB8D-3AAF67F3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55DCF-A8E3-46CC-8EB8-4675879E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5D4A-B7DD-4171-86E7-F357926B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E65A-96EF-49EE-8C8C-7EBB78D7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988E-9AC2-4EDD-B785-6D995943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D45F-4949-4F59-8704-20A73DAC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2BC7-0A65-427A-8471-2C5A53A6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589-1BD7-415E-8814-BABD27E7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44BB-22C1-479D-9D33-93B0588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A13-CF57-4EF1-828E-97EE576D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CD07-0E18-43A9-8B4A-1B2FF81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45D8-CC3B-44CA-8BB4-AA45A0E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662C-F289-48BF-BABB-EA856617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272-83AF-49D3-AE87-29BA37E8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088D-5459-4439-BE00-0731EAFF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2557-50FA-4EAC-8505-3A1D5ED2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2E9B-28DF-4BAB-BE08-E6430FB9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12A8-2179-49EC-B5DA-B643826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089B-3E80-48F5-896A-3A4E0AB0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6E2F-413B-4F16-9833-CABB27D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CC9-FB46-498D-B908-F3C1C648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BA66-2C45-47FE-8557-5B27AA5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0E60-1F40-4ED3-8BDC-96C9485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E242-8E0C-4848-A4B7-C6E765E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0A75-4626-4F14-B049-CB8083F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1B54-293C-4DFE-AE0B-D3B8FEF9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FD21-0B0A-4828-A4B6-B2615722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9641-6AE3-4CBB-8157-22C980CD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E103-6B68-4C40-83BB-3CDB6CDB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9980-FAD9-427A-91AF-436490E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E41F-83DA-4C1C-884E-FFC1C7A8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D7C-F0A6-4675-9880-32DF100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992B-3327-4969-9D59-55D061F2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7683-F8A7-4FA6-9182-445804A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9BEF-CEEE-4245-8DD5-24260C3A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76CE-6CA6-4CD7-ABBA-A7F4F1C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8FD3-4E58-4CD6-9709-B453B8BE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CE3C-04DD-4F0B-81C4-FB8E3CD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6E4A-3392-4F2E-B41E-D6ED15D0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D806-543F-4789-B854-CCEC74F0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A59DA-69DA-4754-929B-BAB6A53F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B3A4-8CEC-4862-A956-7E78C5C7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612-9237-4DF1-A0D9-CEEEA13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292FA-6D9F-40A9-9B32-7BA8E997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6B1C-DCEF-45AD-A72A-4BC64F8C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C8B8-8442-433D-A462-38DF85C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5A841-2534-47A7-B364-3E8A01A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E488-A95D-4E94-A560-96421B94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B37D-E42F-4643-8D9E-A26B043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A79EC-7304-44C1-BDAC-C594E1F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061C-A371-4F10-8A8A-1AC28BF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8901C-5C3C-4A3F-B6B3-EE439A5B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DD16-2A0A-4AA3-B643-45009445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626-F089-4DBC-8EC6-71D4FC5F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70BC-292F-402B-8379-69A18B44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37F78-275F-46E6-8B2D-FDC57B0B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51B5-3C50-4845-BEC0-0A8AA29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A4E98-A402-4897-8D53-8371EC53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5E4DD-9A3D-4C57-8D53-7F148033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6F2F8-F255-43A5-BAC0-15F960C7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2B874-E1C3-4497-8DDB-48578AA2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C6DF4-F0C0-4D7F-9E6E-B5CDD84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D2CC1-C2B7-4A4C-A599-9611549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7FE6-E285-4A0A-8E40-484CBA0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917-43B2-4229-9C00-853F051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D78F4-0BAF-42F8-959B-EFDB5C6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A2F3-7B46-4D91-BCDB-EBCDB403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7378-C059-46C6-AB88-7FF0109E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1E6C0-2A4F-48AE-ADC6-B6F617AD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6A4C-126F-4401-B02C-46474E4B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12AA-BF77-45F5-8A6A-20160709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C4D0-6765-4E91-80A6-045B74BE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3E805-9298-4FF3-BCE6-D656A7A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93F0-D3F1-4FB5-AC0B-A2F465F5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3B5B9-2B93-44DB-BB9C-B73B0D6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AEE-BBE9-463F-B6F9-A6A90A3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43DCB-42B5-421D-8324-D1018AFB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1CC2-79CF-483B-9985-0CCD08A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0EBE-3F78-4412-8050-11CC7247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9645-CEDB-4A4D-8160-43B8ADCF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C8215-560E-47EB-AFC6-7349F656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68464-9876-4E60-AD49-CC64992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73F2-6634-4B72-96E5-A4C2431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57016-409E-4589-B4B9-F827173B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0064-5CAA-4A18-8455-21BA655B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D5E1F-1C55-492E-9EB0-206462D7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435-6DFB-4201-B6EB-62966DA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B74C-EBFA-4036-B78B-614C8FC0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037C3-B869-4728-B839-DC93378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50E08-39B2-4FEF-B46C-4E60218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0CE0C-5B45-48E9-A8AE-A1FF59E9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AA8B6-532E-499F-95A2-74E9D9E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21F05-E6AA-447D-8391-66A83395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563A5-8499-4659-B965-B2628126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FCBF2-792C-4640-9FF0-8AE07B0E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39544-5619-4751-B4A9-0D9C1383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6F48-7BC3-4341-8E99-3BF9B6A5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9824-A296-4E32-9400-B50DB5962F45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6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直線接點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D88-6468-4801-AC26-464E717A2CF8}" type="slidenum">
              <a:rPr b="0" lang="en-US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手繪多邊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群組 12"/>
          <p:cNvGrpSpPr/>
          <p:nvPr/>
        </p:nvGrpSpPr>
        <p:grpSpPr>
          <a:xfrm>
            <a:off x="428760" y="6215040"/>
            <a:ext cx="4286160" cy="453960"/>
            <a:chOff x="428760" y="6215040"/>
            <a:chExt cx="4286160" cy="453960"/>
          </a:xfrm>
        </p:grpSpPr>
        <p:pic>
          <p:nvPicPr>
            <p:cNvPr id="56" name="圖片 13" descr="磐安logo確定版.jpg"/>
            <p:cNvPicPr/>
            <p:nvPr/>
          </p:nvPicPr>
          <p:blipFill>
            <a:blip r:embed="rId4"/>
            <a:stretch/>
          </p:blipFill>
          <p:spPr>
            <a:xfrm>
              <a:off x="428760" y="6286320"/>
              <a:ext cx="357120" cy="35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圖片 14" descr="橫.jpg"/>
            <p:cNvPicPr/>
            <p:nvPr/>
          </p:nvPicPr>
          <p:blipFill>
            <a:blip r:embed="rId5"/>
            <a:stretch/>
          </p:blipFill>
          <p:spPr>
            <a:xfrm>
              <a:off x="857160" y="6215040"/>
              <a:ext cx="385776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9489-F3AC-4964-A2BD-98AF5044E387}" type="slidenum">
              <a:rPr b="0" lang="zh-TW" sz="10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2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直線接點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5" name="群組 7"/>
          <p:cNvGrpSpPr/>
          <p:nvPr/>
        </p:nvGrpSpPr>
        <p:grpSpPr>
          <a:xfrm>
            <a:off x="428760" y="6215040"/>
            <a:ext cx="4286160" cy="453960"/>
            <a:chOff x="428760" y="6215040"/>
            <a:chExt cx="4286160" cy="453960"/>
          </a:xfrm>
        </p:grpSpPr>
        <p:pic>
          <p:nvPicPr>
            <p:cNvPr id="106" name="圖片 8" descr="磐安logo確定版.jpg"/>
            <p:cNvPicPr/>
            <p:nvPr/>
          </p:nvPicPr>
          <p:blipFill>
            <a:blip r:embed="rId4"/>
            <a:stretch/>
          </p:blipFill>
          <p:spPr>
            <a:xfrm>
              <a:off x="428760" y="6286320"/>
              <a:ext cx="357120" cy="35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圖片 9" descr="橫.jpg"/>
            <p:cNvPicPr/>
            <p:nvPr/>
          </p:nvPicPr>
          <p:blipFill>
            <a:blip r:embed="rId5"/>
            <a:stretch/>
          </p:blipFill>
          <p:spPr>
            <a:xfrm>
              <a:off x="857160" y="6215040"/>
              <a:ext cx="385776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8F7-2214-43DF-AFDC-8ED0529E458D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＞形箭號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＞形箭號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064C-14C2-471F-933F-5411AD2C95B0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83E1-3D13-4DE4-B668-EB3852F44373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9D20-A222-4741-A0D4-981BA68210D4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6373-8E14-404D-B576-24ECAF94DDF9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FBB-38D6-445A-88F5-4E0EBDABE341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手繪多邊形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手繪多邊形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直角三角形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7" name="直角三角形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直線接點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0" name="＞形箭號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＞形箭號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CF27-3688-4C93-A65E-32F824FD4E94}" type="slidenum">
              <a:rPr b="0" lang="zh-TW" sz="1000" spc="-1" strike="noStrike">
                <a:solidFill>
                  <a:srgbClr val="000000"/>
                </a:solidFill>
                <a:latin typeface="Lucida Sans Unicode"/>
                <a:ea typeface="微軟正黑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0" y="342756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464646"/>
                </a:solidFill>
                <a:latin typeface="Lucida Sans Unicode"/>
                <a:ea typeface="標楷體"/>
              </a:rPr>
              <a:t>刘江彬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464646"/>
                </a:solidFill>
                <a:latin typeface="Lucida Sans Unicode"/>
                <a:ea typeface="標楷體"/>
              </a:rPr>
              <a:t>政治大学名誉教授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464646"/>
                </a:solidFill>
                <a:latin typeface="Lucida Sans Unicode"/>
                <a:ea typeface="標楷體"/>
              </a:rPr>
              <a:t>财团法人磐安智慧财产教育基金会董事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3080" y="1442880"/>
            <a:ext cx="94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文化创意产业知识产权之保护与经营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科技企业与研发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研发与知识产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技术转让与知识产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知识产权与产业发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知识产权之管理与运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小结：</a:t>
            </a: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IPR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政策  </a:t>
            </a: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IPR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法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        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成果保护  产业形成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468360" y="495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4646"/>
                </a:solidFill>
                <a:latin typeface="標楷體"/>
                <a:ea typeface="標楷體"/>
              </a:rPr>
              <a:t>三、知识产权与产业政策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法律保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专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商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着作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营业秘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公平交易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科技保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3.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管理保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50920" y="42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文化创意知识产权成果保护方法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Rectangle 2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5536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6" name="群組 24"/>
          <p:cNvGrpSpPr/>
          <p:nvPr/>
        </p:nvGrpSpPr>
        <p:grpSpPr>
          <a:xfrm>
            <a:off x="500040" y="1500120"/>
            <a:ext cx="8354880" cy="4176360"/>
            <a:chOff x="500040" y="1500120"/>
            <a:chExt cx="8354880" cy="4176360"/>
          </a:xfrm>
        </p:grpSpPr>
        <p:sp>
          <p:nvSpPr>
            <p:cNvPr id="597" name="Rectangle 3"/>
            <p:cNvSpPr/>
            <p:nvPr/>
          </p:nvSpPr>
          <p:spPr>
            <a:xfrm>
              <a:off x="507960" y="1501560"/>
              <a:ext cx="1352520" cy="197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4"/>
            <p:cNvSpPr/>
            <p:nvPr/>
          </p:nvSpPr>
          <p:spPr>
            <a:xfrm>
              <a:off x="572760" y="1563480"/>
              <a:ext cx="14619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rademar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rade N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Brand N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o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1898640" y="1500120"/>
              <a:ext cx="1627200" cy="197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6"/>
            <p:cNvSpPr/>
            <p:nvPr/>
          </p:nvSpPr>
          <p:spPr>
            <a:xfrm>
              <a:off x="5106960" y="1501560"/>
              <a:ext cx="1919160" cy="197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7"/>
            <p:cNvSpPr/>
            <p:nvPr/>
          </p:nvSpPr>
          <p:spPr>
            <a:xfrm>
              <a:off x="7099200" y="1501560"/>
              <a:ext cx="1719000" cy="197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8"/>
            <p:cNvSpPr/>
            <p:nvPr/>
          </p:nvSpPr>
          <p:spPr>
            <a:xfrm flipV="1">
              <a:off x="2008080" y="3693240"/>
              <a:ext cx="1535040" cy="19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 flipV="1">
              <a:off x="3608280" y="3693240"/>
              <a:ext cx="1535040" cy="19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 flipV="1">
              <a:off x="5189400" y="3710880"/>
              <a:ext cx="1782720" cy="19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 flipV="1">
              <a:off x="7045200" y="3710880"/>
              <a:ext cx="1809720" cy="19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2"/>
            <p:cNvSpPr/>
            <p:nvPr/>
          </p:nvSpPr>
          <p:spPr>
            <a:xfrm>
              <a:off x="1879560" y="1572840"/>
              <a:ext cx="1644480" cy="17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echn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a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atent 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ech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Know H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rade dress do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rade secr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"/>
            <p:cNvSpPr/>
            <p:nvPr/>
          </p:nvSpPr>
          <p:spPr>
            <a:xfrm flipV="1">
              <a:off x="500040" y="3693240"/>
              <a:ext cx="1461960" cy="19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4"/>
            <p:cNvSpPr/>
            <p:nvPr/>
          </p:nvSpPr>
          <p:spPr>
            <a:xfrm>
              <a:off x="572760" y="3786120"/>
              <a:ext cx="137160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Contr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Relationsh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Open purc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or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5"/>
            <p:cNvSpPr/>
            <p:nvPr/>
          </p:nvSpPr>
          <p:spPr>
            <a:xfrm>
              <a:off x="3608280" y="1591920"/>
              <a:ext cx="1444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Artis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iterary wor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Copyr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Mu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com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Ma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Engrav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6"/>
            <p:cNvSpPr/>
            <p:nvPr/>
          </p:nvSpPr>
          <p:spPr>
            <a:xfrm>
              <a:off x="3589200" y="1501560"/>
              <a:ext cx="1444320" cy="197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7"/>
            <p:cNvSpPr/>
            <p:nvPr/>
          </p:nvSpPr>
          <p:spPr>
            <a:xfrm>
              <a:off x="5133960" y="1577880"/>
              <a:ext cx="1644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Data 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ropriet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Software copyr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Automated dat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b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Integrated circu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8"/>
            <p:cNvSpPr/>
            <p:nvPr/>
          </p:nvSpPr>
          <p:spPr>
            <a:xfrm>
              <a:off x="7199280" y="1577880"/>
              <a:ext cx="1417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Engine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Industrial desig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roduct pa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rade secr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Engine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draw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Schema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Bluepr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19"/>
            <p:cNvSpPr/>
            <p:nvPr/>
          </p:nvSpPr>
          <p:spPr>
            <a:xfrm>
              <a:off x="2035080" y="3786120"/>
              <a:ext cx="1535040" cy="18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Favor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supply cont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icense ag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Franchise ag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Noncompe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ag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0"/>
            <p:cNvSpPr/>
            <p:nvPr/>
          </p:nvSpPr>
          <p:spPr>
            <a:xfrm>
              <a:off x="3616200" y="3786120"/>
              <a:ext cx="146196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Hu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rained 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Assembled 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fo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Employment ag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Union contr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21"/>
            <p:cNvSpPr/>
            <p:nvPr/>
          </p:nvSpPr>
          <p:spPr>
            <a:xfrm>
              <a:off x="5207040" y="3787560"/>
              <a:ext cx="164448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easehold inter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Mineral explo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r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Eas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Air r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Water r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2"/>
            <p:cNvSpPr/>
            <p:nvPr/>
          </p:nvSpPr>
          <p:spPr>
            <a:xfrm>
              <a:off x="7089840" y="3786120"/>
              <a:ext cx="173664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Good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Institu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rofess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ersonal goodw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of a profess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Celeb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Going concern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23"/>
          <p:cNvSpPr/>
          <p:nvPr/>
        </p:nvSpPr>
        <p:spPr>
          <a:xfrm>
            <a:off x="4857840" y="5857920"/>
            <a:ext cx="4286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Willy Manfroy</a:t>
            </a:r>
            <a:r>
              <a:rPr b="0" i="1" lang="zh-TW" sz="1400" spc="-1" strike="noStrike">
                <a:solidFill>
                  <a:srgbClr val="000000"/>
                </a:solidFill>
                <a:latin typeface="SimSun"/>
                <a:ea typeface="SimSun"/>
              </a:rPr>
              <a:t>（</a:t>
            </a: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President LES International and Bornival llc</a:t>
            </a:r>
            <a:r>
              <a:rPr b="0" i="1" lang="zh-TW" sz="1400" spc="-1" strike="noStrike">
                <a:solidFill>
                  <a:srgbClr val="000000"/>
                </a:solidFill>
                <a:latin typeface="SimSun"/>
                <a:ea typeface="SimSun"/>
              </a:rPr>
              <a:t>）：</a:t>
            </a: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Intellectual Assets Management North American Best practices, Taipei, March 12,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9266040" cy="1433520"/>
          </a:xfrm>
          <a:prstGeom prst="rect">
            <a:avLst/>
          </a:prstGeom>
          <a:ln w="0">
            <a:noFill/>
          </a:ln>
        </p:spPr>
      </p:pic>
      <p:grpSp>
        <p:nvGrpSpPr>
          <p:cNvPr id="619" name="群組 15"/>
          <p:cNvGrpSpPr/>
          <p:nvPr/>
        </p:nvGrpSpPr>
        <p:grpSpPr>
          <a:xfrm>
            <a:off x="571680" y="1214280"/>
            <a:ext cx="8001000" cy="4953240"/>
            <a:chOff x="571680" y="1214280"/>
            <a:chExt cx="8001000" cy="4953240"/>
          </a:xfrm>
        </p:grpSpPr>
        <p:sp>
          <p:nvSpPr>
            <p:cNvPr id="620" name="Oval 3"/>
            <p:cNvSpPr/>
            <p:nvPr/>
          </p:nvSpPr>
          <p:spPr>
            <a:xfrm>
              <a:off x="571680" y="1214280"/>
              <a:ext cx="8001000" cy="49532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"/>
            <p:cNvSpPr/>
            <p:nvPr/>
          </p:nvSpPr>
          <p:spPr>
            <a:xfrm>
              <a:off x="3086280" y="1442880"/>
              <a:ext cx="2743200" cy="99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IP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5"/>
            <p:cNvSpPr/>
            <p:nvPr/>
          </p:nvSpPr>
          <p:spPr>
            <a:xfrm>
              <a:off x="3391200" y="2890800"/>
              <a:ext cx="1981080" cy="1143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6"/>
            <p:cNvSpPr/>
            <p:nvPr/>
          </p:nvSpPr>
          <p:spPr>
            <a:xfrm>
              <a:off x="723960" y="2966760"/>
              <a:ext cx="2133360" cy="91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Impact Recogn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7"/>
            <p:cNvSpPr/>
            <p:nvPr/>
          </p:nvSpPr>
          <p:spPr>
            <a:xfrm>
              <a:off x="5982120" y="2966760"/>
              <a:ext cx="2376360" cy="99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ortfolio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8"/>
            <p:cNvSpPr/>
            <p:nvPr/>
          </p:nvSpPr>
          <p:spPr>
            <a:xfrm>
              <a:off x="3314880" y="4643640"/>
              <a:ext cx="2286000" cy="106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Value Ex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9"/>
            <p:cNvSpPr/>
            <p:nvPr/>
          </p:nvSpPr>
          <p:spPr>
            <a:xfrm>
              <a:off x="4457880" y="2433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"/>
            <p:cNvSpPr/>
            <p:nvPr/>
          </p:nvSpPr>
          <p:spPr>
            <a:xfrm flipV="1">
              <a:off x="4457880" y="243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"/>
            <p:cNvSpPr/>
            <p:nvPr/>
          </p:nvSpPr>
          <p:spPr>
            <a:xfrm>
              <a:off x="4457880" y="4033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2"/>
            <p:cNvSpPr/>
            <p:nvPr/>
          </p:nvSpPr>
          <p:spPr>
            <a:xfrm>
              <a:off x="5372280" y="3424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3"/>
            <p:cNvSpPr/>
            <p:nvPr/>
          </p:nvSpPr>
          <p:spPr>
            <a:xfrm flipH="1">
              <a:off x="2857320" y="3424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4"/>
          <p:cNvSpPr/>
          <p:nvPr/>
        </p:nvSpPr>
        <p:spPr>
          <a:xfrm>
            <a:off x="4786200" y="5929200"/>
            <a:ext cx="4357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Willy Manfroy</a:t>
            </a:r>
            <a:r>
              <a:rPr b="0" i="1" lang="zh-TW" sz="1400" spc="-1" strike="noStrike">
                <a:solidFill>
                  <a:srgbClr val="000000"/>
                </a:solidFill>
                <a:latin typeface="SimSun"/>
                <a:ea typeface="SimSun"/>
              </a:rPr>
              <a:t>（</a:t>
            </a: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President LES International and Bornival llc</a:t>
            </a:r>
            <a:r>
              <a:rPr b="0" i="1" lang="zh-TW" sz="1400" spc="-1" strike="noStrike">
                <a:solidFill>
                  <a:srgbClr val="000000"/>
                </a:solidFill>
                <a:latin typeface="SimSun"/>
                <a:ea typeface="SimSun"/>
              </a:rPr>
              <a:t>）：</a:t>
            </a: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Intellectual Assets Management North American Best practices, Taipei, March 12,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1793520" y="2044800"/>
            <a:ext cx="64213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a1f28"/>
                </a:solidFill>
                <a:latin typeface="Symbol"/>
                <a:ea typeface="Symbol"/>
              </a:rPr>
              <a:t></a:t>
            </a:r>
            <a:r>
              <a:rPr b="0" lang="en-US" sz="2500" spc="-1" strike="noStrike">
                <a:solidFill>
                  <a:srgbClr val="000000"/>
                </a:solidFill>
                <a:latin typeface="SimSun"/>
                <a:ea typeface="SimSu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imSun"/>
                <a:ea typeface="SimSun"/>
              </a:rPr>
              <a:t>Identify core competency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a1f28"/>
                </a:solidFill>
                <a:latin typeface="Symbol"/>
                <a:ea typeface="Symbol"/>
              </a:rPr>
              <a:t></a:t>
            </a:r>
            <a:r>
              <a:rPr b="0" lang="en-US" sz="2500" spc="-1" strike="noStrike">
                <a:solidFill>
                  <a:srgbClr val="000000"/>
                </a:solidFill>
                <a:latin typeface="SimSun"/>
                <a:ea typeface="SimSu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imSun"/>
                <a:ea typeface="SimSun"/>
              </a:rPr>
              <a:t>Integrate IP in business strateg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a1f28"/>
                </a:solidFill>
                <a:latin typeface="Symbol"/>
                <a:ea typeface="Symbol"/>
              </a:rPr>
              <a:t></a:t>
            </a:r>
            <a:r>
              <a:rPr b="0" lang="en-US" sz="2500" spc="-1" strike="noStrike">
                <a:solidFill>
                  <a:srgbClr val="000000"/>
                </a:solidFill>
                <a:latin typeface="SimSun"/>
                <a:ea typeface="SimSu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imSun"/>
                <a:ea typeface="SimSun"/>
              </a:rPr>
              <a:t>Develop Intellectual Assets planning to sustain business strateg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a1f28"/>
                </a:solidFill>
                <a:latin typeface="Symbol"/>
                <a:ea typeface="Symbol"/>
              </a:rPr>
              <a:t></a:t>
            </a:r>
            <a:r>
              <a:rPr b="1" lang="en-US" sz="2500" spc="-1" strike="noStrike">
                <a:solidFill>
                  <a:srgbClr val="da1f28"/>
                </a:solidFill>
                <a:latin typeface="SimSun"/>
                <a:ea typeface="SimSu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imSun"/>
                <a:ea typeface="SimSun"/>
              </a:rPr>
              <a:t>Use Intellectual Assets to understand and react to threats and opportunit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749160" y="647640"/>
            <a:ext cx="7769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SimSun"/>
                <a:ea typeface="SimSun"/>
              </a:rPr>
              <a:t>Strateg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28760" y="1699920"/>
            <a:ext cx="828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建立研发成果管理制度之权责编制（包括单位及人员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确认研发成果归属之管理机制、程序或文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确认研发成果发明人与创作人之管理机制、程序或文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相关研发人员之竞业禁止规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公告研发成果与公告内容审查之管理机制、程序或文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466560" y="47628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五、文化创意产业成果管理制度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评估研发成果保护之适当态样的管理机制、程序或文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研发成果之申请、登记、取得、维护及确保（包括侵权处理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8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研发成果必要信息之管理机制、程序或文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9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负责研发成果管理制度协调或统合之权责单位或人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10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编撰研发成果管理手册或文件，载明以上所有相关规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395280" y="476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五、文化创意产业成果管理制度（续）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建立技术转让制度之权责编制（单位及人员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研发成果资料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技术转让相关信息推广之机制、程序或文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技术转让程序之规划与执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研发成果运用之评估，及履约、违约处理之机制、程序或文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468360" y="4237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六、技术转让管理制度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研发成果运用之收益分配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报告研发成果运用之机制、程序或文件，包括权利金、就业机会、投资金额等符合经济部要求之资料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8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对外联系窗口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9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、编撰技术转让手册或文件载明以上所有相关规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468360" y="42372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六、技术转让管理制度（续）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31640" y="1773000"/>
            <a:ext cx="7313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法律保护之竞合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所有权与使用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交互授权与策略联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市场与技术控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攻击与防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智慧财产权之放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中央集权 </a:t>
            </a: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v.s. 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地方分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强制授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468360" y="404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七、文化创意产业成果运用方式与策略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一、前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二、知识产权之价值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三、文化创意产业与产业政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四、文化创意产业成果保护方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五、文化创意产业成果管理制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六、技术转让管理制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七、数位内容成果运用方式与策略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八、先进国家之经验与案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九、结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468360" y="47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大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3"/>
          <p:cNvSpPr/>
          <p:nvPr/>
        </p:nvSpPr>
        <p:spPr>
          <a:xfrm>
            <a:off x="45720" y="6091920"/>
            <a:ext cx="66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SimSun"/>
                <a:ea typeface="SimSun"/>
              </a:rPr>
              <a:t>资料来源：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  <a:ea typeface="SimSun"/>
              </a:rPr>
              <a:t>United States Patent and Trademark Office (USPTO) </a:t>
            </a:r>
            <a:r>
              <a:rPr b="1" lang="zh-TW" sz="1200" spc="-1" strike="noStrike">
                <a:solidFill>
                  <a:srgbClr val="000000"/>
                </a:solidFill>
                <a:latin typeface="SimSun"/>
                <a:ea typeface="SimSun"/>
              </a:rPr>
              <a:t>网站</a:t>
            </a:r>
            <a:r>
              <a:rPr b="1" lang="en-US" sz="1200" spc="-1" strike="noStrike">
                <a:solidFill>
                  <a:srgbClr val="000000"/>
                </a:solidFill>
                <a:latin typeface="SimSun"/>
                <a:ea typeface="SimSun"/>
              </a:rPr>
              <a:t>http://www.uspto.gov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250920" y="1052640"/>
          <a:ext cx="8893080" cy="4978440"/>
        </p:xfrm>
        <a:graphic>
          <a:graphicData uri="http://schemas.openxmlformats.org/drawingml/2006/table">
            <a:tbl>
              <a:tblPr/>
              <a:tblGrid>
                <a:gridCol w="495360"/>
                <a:gridCol w="1122120"/>
                <a:gridCol w="646200"/>
                <a:gridCol w="885960"/>
                <a:gridCol w="631800"/>
                <a:gridCol w="1063440"/>
                <a:gridCol w="647640"/>
                <a:gridCol w="1049400"/>
                <a:gridCol w="644760"/>
                <a:gridCol w="1050840"/>
                <a:gridCol w="6555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排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公司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件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公司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件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公司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件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公司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件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公司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件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B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,8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B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,4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B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,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B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,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B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,2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,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9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a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a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ita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a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a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c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8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ita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a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8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ams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4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c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8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atsush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7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Luc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4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ams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4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ita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7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c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7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on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atsush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atsush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5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c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ams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c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o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o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n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n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6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oshi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ita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hili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ita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5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otoro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tsbus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ams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oshi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Fujits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Fujits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tsubis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o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O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3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7" name="Text Box 156"/>
          <p:cNvSpPr/>
          <p:nvPr/>
        </p:nvSpPr>
        <p:spPr>
          <a:xfrm>
            <a:off x="68436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標楷體"/>
              </a:rPr>
              <a:t>IBM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標楷體"/>
              </a:rPr>
              <a:t>专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標楷體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年蝉连全球第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20030804brand002"/>
          <p:cNvPicPr/>
          <p:nvPr/>
        </p:nvPicPr>
        <p:blipFill>
          <a:blip r:embed="rId1"/>
          <a:stretch/>
        </p:blipFill>
        <p:spPr>
          <a:xfrm>
            <a:off x="2195640" y="-458640"/>
            <a:ext cx="519732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388800" y="6380640"/>
            <a:ext cx="21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軟正黑體"/>
              </a:rPr>
              <a:t>    </a:t>
            </a:r>
            <a:r>
              <a:rPr b="0" lang="zh-TW" sz="900" spc="-1" strike="noStrike">
                <a:solidFill>
                  <a:srgbClr val="000000"/>
                </a:solidFill>
                <a:latin typeface="SimSun"/>
                <a:ea typeface="SimSun"/>
              </a:rPr>
              <a:t>资料来源：</a:t>
            </a:r>
            <a:r>
              <a:rPr b="0" lang="en-US" sz="900" spc="-1" strike="noStrike">
                <a:solidFill>
                  <a:srgbClr val="000000"/>
                </a:solidFill>
                <a:latin typeface="SimSun"/>
                <a:ea typeface="SimSun"/>
              </a:rPr>
              <a:t>Business Week 2003/08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1052640"/>
          <a:ext cx="8640720" cy="5222880"/>
        </p:xfrm>
        <a:graphic>
          <a:graphicData uri="http://schemas.openxmlformats.org/drawingml/2006/table">
            <a:tbl>
              <a:tblPr/>
              <a:tblGrid>
                <a:gridCol w="685800"/>
                <a:gridCol w="1645920"/>
                <a:gridCol w="1397160"/>
                <a:gridCol w="1568520"/>
                <a:gridCol w="1679400"/>
                <a:gridCol w="16639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排名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品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公司名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004</a:t>
                      </a:r>
                      <a:r>
                        <a:rPr b="1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品牌价值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1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新台币</a:t>
                      </a: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: </a:t>
                      </a:r>
                      <a:r>
                        <a:rPr b="1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亿元</a:t>
                      </a: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003</a:t>
                      </a:r>
                      <a:r>
                        <a:rPr b="1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品牌价值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1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新台币</a:t>
                      </a: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: </a:t>
                      </a:r>
                      <a:r>
                        <a:rPr b="1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亿元</a:t>
                      </a: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品牌价值增长率</a:t>
                      </a: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003-20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Trend Micr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趋势科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308.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59.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8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AS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华硕电脑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77.8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44.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3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Ac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宏棋电脑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16.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74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24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Master Ko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康师傅控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2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15.8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3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MAXX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正新橡胶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94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87.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8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Ben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明基电通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91.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67.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35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GIA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巨大机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80.8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71.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ZyX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合勤科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73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66.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9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D-Lin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友讯科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71.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N/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ADVANTEC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研华科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66.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646"/>
                          </a:solidFill>
                          <a:latin typeface="Arial"/>
                          <a:ea typeface="新細明體"/>
                        </a:rPr>
                        <a:t>9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Rectangle 90"/>
          <p:cNvSpPr/>
          <p:nvPr/>
        </p:nvSpPr>
        <p:spPr>
          <a:xfrm>
            <a:off x="1046160" y="45619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  <a:ea typeface="微軟正黑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1"/>
          <p:cNvSpPr/>
          <p:nvPr/>
        </p:nvSpPr>
        <p:spPr>
          <a:xfrm>
            <a:off x="140328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標楷體"/>
              </a:rPr>
              <a:t>2003~2004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台湾十大国际品牌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bucks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Hei"/>
              </a:rPr>
              <a:t>咖啡：饮食文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Hei"/>
              </a:rPr>
              <a:t>苹果牌计算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Pod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unes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Hei"/>
              </a:rPr>
              <a:t>：视厅文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Hei"/>
              </a:rPr>
              <a:t>日本经验：创河公司的模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Hei"/>
              </a:rPr>
              <a:t>台湾案例：法蓝瓷、太极影音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Hei"/>
              </a:rPr>
              <a:t>大陆案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466560" y="42372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八、先进国家之经验与案例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政策方向及资源投入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-</a:t>
            </a: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攻或防、积极或消极、兴利或防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技术层次：硬件及软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管理制度：商业方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专业人才：跨领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SimSun"/>
                <a:ea typeface="SimSun"/>
              </a:rPr>
              <a:t>信息整合：国际与两岸合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68360" y="476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九、结论：成败关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知识经济时代，知识产权是产、官、学、研各界所必须面临的重要课题。产业界，无论是高科技或是传统产业，知识产权决定公司存亡成败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    政大智慧财产研究所 所长刘江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8642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It is no longer simply the legal department</a:t>
            </a:r>
            <a:r>
              <a:rPr b="1" lang="zh-TW" sz="2700" spc="-1" strike="noStrike">
                <a:solidFill>
                  <a:srgbClr val="000000"/>
                </a:solidFill>
                <a:latin typeface="SimSun"/>
                <a:ea typeface="SimSun"/>
              </a:rPr>
              <a:t>＇</a:t>
            </a: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s problem. CEO</a:t>
            </a:r>
            <a:r>
              <a:rPr b="1" lang="zh-TW" sz="2700" spc="-1" strike="noStrike">
                <a:solidFill>
                  <a:srgbClr val="000000"/>
                </a:solidFill>
                <a:latin typeface="SimSun"/>
                <a:ea typeface="SimSun"/>
              </a:rPr>
              <a:t>＇</a:t>
            </a: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s must now be able to formulate strategies that capitalise on and maximise the value of their company</a:t>
            </a:r>
            <a:r>
              <a:rPr b="1" lang="zh-TW" sz="2700" spc="-1" strike="noStrike">
                <a:solidFill>
                  <a:srgbClr val="000000"/>
                </a:solidFill>
                <a:latin typeface="SimSun"/>
                <a:ea typeface="SimSun"/>
              </a:rPr>
              <a:t>＇</a:t>
            </a: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s intellectual property assets to drive growth, innovation and cooperative relationships with other companies.</a:t>
            </a:r>
            <a:r>
              <a:rPr b="1" lang="zh-TW" sz="2700" spc="-1" strike="noStrike">
                <a:solidFill>
                  <a:srgbClr val="000000"/>
                </a:solidFill>
                <a:latin typeface="SimSun"/>
                <a:ea typeface="SimSun"/>
              </a:rPr>
              <a:t>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SimSun"/>
                <a:ea typeface="SimSu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Bill Gates   Chairman Microsoft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Financial Times November 12 200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国际新兴创业：影展、大展、大奖、奖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丰富的无形资产：专利、商标、版权</a:t>
            </a:r>
            <a:r>
              <a:rPr b="0" lang="en-US" sz="2700" spc="-1" strike="noStrike">
                <a:solidFill>
                  <a:srgbClr val="000000"/>
                </a:solidFill>
                <a:latin typeface="SimSun"/>
                <a:ea typeface="SimSun"/>
              </a:rPr>
              <a:t>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国际分工与合作：融资、制作、发行、通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跨领域结盟的困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仿冒、抄袭、山寨文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  <a:ea typeface="SimSun"/>
              </a:rPr>
              <a:t>两岸的机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395280" y="4237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文化创意产业知识产权的挑战与机会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NEWS15"/>
          <p:cNvPicPr/>
          <p:nvPr/>
        </p:nvPicPr>
        <p:blipFill>
          <a:blip r:embed="rId1"/>
          <a:stretch/>
        </p:blipFill>
        <p:spPr>
          <a:xfrm>
            <a:off x="900000" y="0"/>
            <a:ext cx="7058160" cy="69166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3"/>
          <p:cNvSpPr/>
          <p:nvPr/>
        </p:nvSpPr>
        <p:spPr>
          <a:xfrm>
            <a:off x="900000" y="476280"/>
            <a:ext cx="54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SimSun"/>
                <a:ea typeface="SimSun"/>
              </a:rPr>
              <a:t>Bile Gates</a:t>
            </a:r>
            <a:r>
              <a:rPr b="1" lang="zh-TW" sz="2400" spc="-1" strike="noStrike">
                <a:solidFill>
                  <a:srgbClr val="ffffff"/>
                </a:solidFill>
                <a:latin typeface="SimSun"/>
                <a:ea typeface="SimSun"/>
              </a:rPr>
              <a:t>世界首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01"/>
          <p:cNvPicPr/>
          <p:nvPr/>
        </p:nvPicPr>
        <p:blipFill>
          <a:blip r:embed="rId1"/>
          <a:stretch/>
        </p:blipFill>
        <p:spPr>
          <a:xfrm>
            <a:off x="-324000" y="0"/>
            <a:ext cx="466416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02"/>
          <p:cNvPicPr/>
          <p:nvPr/>
        </p:nvPicPr>
        <p:blipFill>
          <a:blip r:embed="rId2"/>
          <a:stretch/>
        </p:blipFill>
        <p:spPr>
          <a:xfrm>
            <a:off x="4354560" y="0"/>
            <a:ext cx="4789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2819520"/>
            <a:ext cx="2335320" cy="1066680"/>
            <a:chOff x="0" y="2819520"/>
            <a:chExt cx="2335320" cy="1066680"/>
          </a:xfrm>
        </p:grpSpPr>
        <p:sp>
          <p:nvSpPr>
            <p:cNvPr id="491" name="Line 3"/>
            <p:cNvSpPr/>
            <p:nvPr/>
          </p:nvSpPr>
          <p:spPr>
            <a:xfrm>
              <a:off x="1725840" y="3414960"/>
              <a:ext cx="609480" cy="90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4"/>
            <p:cNvSpPr/>
            <p:nvPr/>
          </p:nvSpPr>
          <p:spPr>
            <a:xfrm>
              <a:off x="0" y="2819520"/>
              <a:ext cx="1752840" cy="106668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微軟正黑體"/>
                </a:rPr>
                <a:t>R&amp;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微軟正黑體"/>
                </a:rPr>
                <a:t>研究與發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"/>
          <p:cNvGrpSpPr/>
          <p:nvPr/>
        </p:nvGrpSpPr>
        <p:grpSpPr>
          <a:xfrm>
            <a:off x="380880" y="609480"/>
            <a:ext cx="8763120" cy="6248520"/>
            <a:chOff x="380880" y="609480"/>
            <a:chExt cx="8763120" cy="6248520"/>
          </a:xfrm>
        </p:grpSpPr>
        <p:sp>
          <p:nvSpPr>
            <p:cNvPr id="494" name="Oval 6"/>
            <p:cNvSpPr/>
            <p:nvPr/>
          </p:nvSpPr>
          <p:spPr>
            <a:xfrm>
              <a:off x="658800" y="1066680"/>
              <a:ext cx="7543800" cy="52578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7"/>
            <p:cNvGrpSpPr/>
            <p:nvPr/>
          </p:nvGrpSpPr>
          <p:grpSpPr>
            <a:xfrm>
              <a:off x="1066680" y="1219320"/>
              <a:ext cx="1878120" cy="1371600"/>
              <a:chOff x="1066680" y="1219320"/>
              <a:chExt cx="1878120" cy="1371600"/>
            </a:xfrm>
          </p:grpSpPr>
          <p:sp>
            <p:nvSpPr>
              <p:cNvPr id="496" name="Line 8"/>
              <p:cNvSpPr/>
              <p:nvPr/>
            </p:nvSpPr>
            <p:spPr>
              <a:xfrm>
                <a:off x="2487600" y="2133720"/>
                <a:ext cx="457200" cy="4572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9"/>
              <p:cNvSpPr/>
              <p:nvPr/>
            </p:nvSpPr>
            <p:spPr>
              <a:xfrm>
                <a:off x="1066680" y="1219320"/>
                <a:ext cx="1752840" cy="10666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IP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智慧財產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0"/>
            <p:cNvGrpSpPr/>
            <p:nvPr/>
          </p:nvGrpSpPr>
          <p:grpSpPr>
            <a:xfrm>
              <a:off x="1066680" y="1219320"/>
              <a:ext cx="1878120" cy="1371600"/>
              <a:chOff x="1066680" y="1219320"/>
              <a:chExt cx="1878120" cy="1371600"/>
            </a:xfrm>
          </p:grpSpPr>
          <p:sp>
            <p:nvSpPr>
              <p:cNvPr id="499" name="Line 11"/>
              <p:cNvSpPr/>
              <p:nvPr/>
            </p:nvSpPr>
            <p:spPr>
              <a:xfrm>
                <a:off x="2487600" y="2133720"/>
                <a:ext cx="457200" cy="457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2"/>
              <p:cNvSpPr/>
              <p:nvPr/>
            </p:nvSpPr>
            <p:spPr>
              <a:xfrm>
                <a:off x="1066680" y="1219320"/>
                <a:ext cx="1752840" cy="10666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IP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智慧财产权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3"/>
            <p:cNvGrpSpPr/>
            <p:nvPr/>
          </p:nvGrpSpPr>
          <p:grpSpPr>
            <a:xfrm>
              <a:off x="3657600" y="609480"/>
              <a:ext cx="1752480" cy="1447920"/>
              <a:chOff x="3657600" y="609480"/>
              <a:chExt cx="1752480" cy="1447920"/>
            </a:xfrm>
          </p:grpSpPr>
          <p:sp>
            <p:nvSpPr>
              <p:cNvPr id="502" name="Line 14"/>
              <p:cNvSpPr/>
              <p:nvPr/>
            </p:nvSpPr>
            <p:spPr>
              <a:xfrm>
                <a:off x="4522680" y="1676520"/>
                <a:ext cx="0" cy="380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5"/>
              <p:cNvSpPr/>
              <p:nvPr/>
            </p:nvSpPr>
            <p:spPr>
              <a:xfrm>
                <a:off x="3657600" y="609480"/>
                <a:ext cx="1752480" cy="106704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Ven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Ca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創投基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6"/>
            <p:cNvGrpSpPr/>
            <p:nvPr/>
          </p:nvGrpSpPr>
          <p:grpSpPr>
            <a:xfrm>
              <a:off x="2335320" y="2057400"/>
              <a:ext cx="4316400" cy="3429000"/>
              <a:chOff x="2335320" y="2057400"/>
              <a:chExt cx="4316400" cy="3429000"/>
            </a:xfrm>
          </p:grpSpPr>
          <p:sp>
            <p:nvSpPr>
              <p:cNvPr id="505" name="Oval 17"/>
              <p:cNvSpPr/>
              <p:nvPr/>
            </p:nvSpPr>
            <p:spPr>
              <a:xfrm>
                <a:off x="2335320" y="2057400"/>
                <a:ext cx="4316400" cy="3429000"/>
              </a:xfrm>
              <a:prstGeom prst="ellipse">
                <a:avLst/>
              </a:prstGeom>
              <a:gradFill rotWithShape="0">
                <a:gsLst>
                  <a:gs pos="0">
                    <a:srgbClr val="ff8119"/>
                  </a:gs>
                  <a:gs pos="100000">
                    <a:srgbClr val="da1f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Group 18"/>
              <p:cNvGrpSpPr/>
              <p:nvPr/>
            </p:nvGrpSpPr>
            <p:grpSpPr>
              <a:xfrm>
                <a:off x="2444760" y="2286000"/>
                <a:ext cx="4205160" cy="3004920"/>
                <a:chOff x="2444760" y="2286000"/>
                <a:chExt cx="4205160" cy="3004920"/>
              </a:xfrm>
            </p:grpSpPr>
            <p:sp>
              <p:nvSpPr>
                <p:cNvPr id="507" name="Oval 19"/>
                <p:cNvSpPr/>
                <p:nvPr/>
              </p:nvSpPr>
              <p:spPr>
                <a:xfrm>
                  <a:off x="3200400" y="3048120"/>
                  <a:ext cx="2716200" cy="144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a2bf"/>
                    </a:gs>
                    <a:gs pos="100000">
                      <a:srgbClr val="1e6d8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nowledge-Ba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opulation &amp; Indust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以知識為本的人力資源與產業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ule of Law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法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20"/>
                <p:cNvSpPr/>
                <p:nvPr/>
              </p:nvSpPr>
              <p:spPr>
                <a:xfrm>
                  <a:off x="4011480" y="2286000"/>
                  <a:ext cx="114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Industr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產業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Text Box 21"/>
                <p:cNvSpPr/>
                <p:nvPr/>
              </p:nvSpPr>
              <p:spPr>
                <a:xfrm>
                  <a:off x="2444760" y="3200400"/>
                  <a:ext cx="7635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研發機構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R&amp;D Institution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 Box 22"/>
                <p:cNvSpPr/>
                <p:nvPr/>
              </p:nvSpPr>
              <p:spPr>
                <a:xfrm>
                  <a:off x="5920920" y="3200400"/>
                  <a:ext cx="729000" cy="12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政府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Govern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23"/>
                <p:cNvSpPr/>
                <p:nvPr/>
              </p:nvSpPr>
              <p:spPr>
                <a:xfrm>
                  <a:off x="3935520" y="4648320"/>
                  <a:ext cx="1371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Academi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Times New Roman"/>
                      <a:ea typeface="微軟正黑體"/>
                    </a:rPr>
                    <a:t>學術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2" name="Group 24"/>
            <p:cNvGrpSpPr/>
            <p:nvPr/>
          </p:nvGrpSpPr>
          <p:grpSpPr>
            <a:xfrm>
              <a:off x="3657600" y="609480"/>
              <a:ext cx="1752480" cy="1447920"/>
              <a:chOff x="3657600" y="609480"/>
              <a:chExt cx="1752480" cy="1447920"/>
            </a:xfrm>
          </p:grpSpPr>
          <p:sp>
            <p:nvSpPr>
              <p:cNvPr id="513" name="Line 25"/>
              <p:cNvSpPr/>
              <p:nvPr/>
            </p:nvSpPr>
            <p:spPr>
              <a:xfrm>
                <a:off x="4522680" y="1676520"/>
                <a:ext cx="0" cy="380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26"/>
              <p:cNvSpPr/>
              <p:nvPr/>
            </p:nvSpPr>
            <p:spPr>
              <a:xfrm>
                <a:off x="3657600" y="609480"/>
                <a:ext cx="1752480" cy="10670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Ven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Capi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创投基金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27"/>
            <p:cNvGrpSpPr/>
            <p:nvPr/>
          </p:nvGrpSpPr>
          <p:grpSpPr>
            <a:xfrm>
              <a:off x="5943600" y="1143000"/>
              <a:ext cx="1909800" cy="1371600"/>
              <a:chOff x="5943600" y="1143000"/>
              <a:chExt cx="1909800" cy="1371600"/>
            </a:xfrm>
          </p:grpSpPr>
          <p:sp>
            <p:nvSpPr>
              <p:cNvPr id="516" name="Line 28"/>
              <p:cNvSpPr/>
              <p:nvPr/>
            </p:nvSpPr>
            <p:spPr>
              <a:xfrm flipH="1">
                <a:off x="5943600" y="2057400"/>
                <a:ext cx="457200" cy="4572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29"/>
              <p:cNvSpPr/>
              <p:nvPr/>
            </p:nvSpPr>
            <p:spPr>
              <a:xfrm>
                <a:off x="6100920" y="1143000"/>
                <a:ext cx="1752480" cy="10666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Technolo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Transf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技術移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0"/>
            <p:cNvGrpSpPr/>
            <p:nvPr/>
          </p:nvGrpSpPr>
          <p:grpSpPr>
            <a:xfrm>
              <a:off x="5943600" y="1143000"/>
              <a:ext cx="1909800" cy="1371600"/>
              <a:chOff x="5943600" y="1143000"/>
              <a:chExt cx="1909800" cy="1371600"/>
            </a:xfrm>
          </p:grpSpPr>
          <p:sp>
            <p:nvSpPr>
              <p:cNvPr id="519" name="Line 31"/>
              <p:cNvSpPr/>
              <p:nvPr/>
            </p:nvSpPr>
            <p:spPr>
              <a:xfrm flipH="1">
                <a:off x="5943600" y="2057400"/>
                <a:ext cx="457200" cy="457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32"/>
              <p:cNvSpPr/>
              <p:nvPr/>
            </p:nvSpPr>
            <p:spPr>
              <a:xfrm>
                <a:off x="6100920" y="1143000"/>
                <a:ext cx="1752480" cy="10666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Technolo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Transf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技术转让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33"/>
            <p:cNvGrpSpPr/>
            <p:nvPr/>
          </p:nvGrpSpPr>
          <p:grpSpPr>
            <a:xfrm>
              <a:off x="6629400" y="2666880"/>
              <a:ext cx="2514600" cy="1066680"/>
              <a:chOff x="6629400" y="2666880"/>
              <a:chExt cx="2514600" cy="1066680"/>
            </a:xfrm>
          </p:grpSpPr>
          <p:sp>
            <p:nvSpPr>
              <p:cNvPr id="522" name="Line 34"/>
              <p:cNvSpPr/>
              <p:nvPr/>
            </p:nvSpPr>
            <p:spPr>
              <a:xfrm flipV="1">
                <a:off x="6629400" y="3352320"/>
                <a:ext cx="838080" cy="2286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35"/>
              <p:cNvSpPr/>
              <p:nvPr/>
            </p:nvSpPr>
            <p:spPr>
              <a:xfrm>
                <a:off x="7391520" y="2666880"/>
                <a:ext cx="1752480" cy="10666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Entrepreneu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企業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36"/>
            <p:cNvGrpSpPr/>
            <p:nvPr/>
          </p:nvGrpSpPr>
          <p:grpSpPr>
            <a:xfrm>
              <a:off x="6629400" y="2666880"/>
              <a:ext cx="2514600" cy="1067040"/>
              <a:chOff x="6629400" y="2666880"/>
              <a:chExt cx="2514600" cy="1067040"/>
            </a:xfrm>
          </p:grpSpPr>
          <p:sp>
            <p:nvSpPr>
              <p:cNvPr id="525" name="Line 37"/>
              <p:cNvSpPr/>
              <p:nvPr/>
            </p:nvSpPr>
            <p:spPr>
              <a:xfrm flipV="1">
                <a:off x="6629400" y="3352320"/>
                <a:ext cx="83808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38"/>
              <p:cNvSpPr/>
              <p:nvPr/>
            </p:nvSpPr>
            <p:spPr>
              <a:xfrm>
                <a:off x="7391520" y="2666880"/>
                <a:ext cx="1752480" cy="10670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Entrepreneu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企业家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39"/>
            <p:cNvGrpSpPr/>
            <p:nvPr/>
          </p:nvGrpSpPr>
          <p:grpSpPr>
            <a:xfrm>
              <a:off x="6477120" y="4495680"/>
              <a:ext cx="2084400" cy="1295280"/>
              <a:chOff x="6477120" y="4495680"/>
              <a:chExt cx="2084400" cy="1295280"/>
            </a:xfrm>
          </p:grpSpPr>
          <p:sp>
            <p:nvSpPr>
              <p:cNvPr id="528" name="Line 40"/>
              <p:cNvSpPr/>
              <p:nvPr/>
            </p:nvSpPr>
            <p:spPr>
              <a:xfrm>
                <a:off x="6477120" y="4495680"/>
                <a:ext cx="609480" cy="380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1"/>
              <p:cNvSpPr/>
              <p:nvPr/>
            </p:nvSpPr>
            <p:spPr>
              <a:xfrm>
                <a:off x="6809040" y="4724280"/>
                <a:ext cx="1752480" cy="10666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Start-Up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Compan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新創事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42"/>
            <p:cNvGrpSpPr/>
            <p:nvPr/>
          </p:nvGrpSpPr>
          <p:grpSpPr>
            <a:xfrm>
              <a:off x="5029200" y="5334120"/>
              <a:ext cx="1752480" cy="1523880"/>
              <a:chOff x="5029200" y="5334120"/>
              <a:chExt cx="1752480" cy="1523880"/>
            </a:xfrm>
          </p:grpSpPr>
          <p:sp>
            <p:nvSpPr>
              <p:cNvPr id="531" name="Line 43"/>
              <p:cNvSpPr/>
              <p:nvPr/>
            </p:nvSpPr>
            <p:spPr>
              <a:xfrm flipH="1" flipV="1">
                <a:off x="5382720" y="5334120"/>
                <a:ext cx="304920" cy="4572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4"/>
              <p:cNvSpPr/>
              <p:nvPr/>
            </p:nvSpPr>
            <p:spPr>
              <a:xfrm>
                <a:off x="5029200" y="5791320"/>
                <a:ext cx="1752480" cy="10666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Capital Mar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資本市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45"/>
            <p:cNvGrpSpPr/>
            <p:nvPr/>
          </p:nvGrpSpPr>
          <p:grpSpPr>
            <a:xfrm>
              <a:off x="6477120" y="4495680"/>
              <a:ext cx="2084400" cy="1295640"/>
              <a:chOff x="6477120" y="4495680"/>
              <a:chExt cx="2084400" cy="1295640"/>
            </a:xfrm>
          </p:grpSpPr>
          <p:sp>
            <p:nvSpPr>
              <p:cNvPr id="534" name="Line 46"/>
              <p:cNvSpPr/>
              <p:nvPr/>
            </p:nvSpPr>
            <p:spPr>
              <a:xfrm>
                <a:off x="6477120" y="4495680"/>
                <a:ext cx="609480" cy="381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47"/>
              <p:cNvSpPr/>
              <p:nvPr/>
            </p:nvSpPr>
            <p:spPr>
              <a:xfrm>
                <a:off x="6808680" y="4724280"/>
                <a:ext cx="1752840" cy="106704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Start-Up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Compan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新创事业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48"/>
            <p:cNvGrpSpPr/>
            <p:nvPr/>
          </p:nvGrpSpPr>
          <p:grpSpPr>
            <a:xfrm>
              <a:off x="2438280" y="5409720"/>
              <a:ext cx="1752840" cy="1448280"/>
              <a:chOff x="2438280" y="5409720"/>
              <a:chExt cx="1752840" cy="1448280"/>
            </a:xfrm>
          </p:grpSpPr>
          <p:sp>
            <p:nvSpPr>
              <p:cNvPr id="537" name="Line 49"/>
              <p:cNvSpPr/>
              <p:nvPr/>
            </p:nvSpPr>
            <p:spPr>
              <a:xfrm flipV="1">
                <a:off x="3554280" y="5409720"/>
                <a:ext cx="228600" cy="3812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50"/>
              <p:cNvSpPr/>
              <p:nvPr/>
            </p:nvSpPr>
            <p:spPr>
              <a:xfrm>
                <a:off x="2438280" y="5791320"/>
                <a:ext cx="1752840" cy="10666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S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中小企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51"/>
            <p:cNvGrpSpPr/>
            <p:nvPr/>
          </p:nvGrpSpPr>
          <p:grpSpPr>
            <a:xfrm>
              <a:off x="380880" y="4571640"/>
              <a:ext cx="2183040" cy="1143360"/>
              <a:chOff x="380880" y="4571640"/>
              <a:chExt cx="2183040" cy="1143360"/>
            </a:xfrm>
          </p:grpSpPr>
          <p:sp>
            <p:nvSpPr>
              <p:cNvPr id="540" name="Line 52"/>
              <p:cNvSpPr/>
              <p:nvPr/>
            </p:nvSpPr>
            <p:spPr>
              <a:xfrm flipV="1">
                <a:off x="1917720" y="4571640"/>
                <a:ext cx="646200" cy="3301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53"/>
              <p:cNvSpPr/>
              <p:nvPr/>
            </p:nvSpPr>
            <p:spPr>
              <a:xfrm>
                <a:off x="380880" y="4647960"/>
                <a:ext cx="1752840" cy="106704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Multi-natio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多國籍企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54"/>
            <p:cNvGrpSpPr/>
            <p:nvPr/>
          </p:nvGrpSpPr>
          <p:grpSpPr>
            <a:xfrm>
              <a:off x="5029200" y="5334120"/>
              <a:ext cx="1752480" cy="1523880"/>
              <a:chOff x="5029200" y="5334120"/>
              <a:chExt cx="1752480" cy="1523880"/>
            </a:xfrm>
          </p:grpSpPr>
          <p:sp>
            <p:nvSpPr>
              <p:cNvPr id="543" name="Line 55"/>
              <p:cNvSpPr/>
              <p:nvPr/>
            </p:nvSpPr>
            <p:spPr>
              <a:xfrm flipH="1" flipV="1">
                <a:off x="5382720" y="5334120"/>
                <a:ext cx="304920" cy="457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56"/>
              <p:cNvSpPr/>
              <p:nvPr/>
            </p:nvSpPr>
            <p:spPr>
              <a:xfrm>
                <a:off x="5029200" y="5791320"/>
                <a:ext cx="1752480" cy="10666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Capital Mar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资本市场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57"/>
            <p:cNvGrpSpPr/>
            <p:nvPr/>
          </p:nvGrpSpPr>
          <p:grpSpPr>
            <a:xfrm>
              <a:off x="2438280" y="5410080"/>
              <a:ext cx="1752480" cy="1447560"/>
              <a:chOff x="2438280" y="5410080"/>
              <a:chExt cx="1752480" cy="1447560"/>
            </a:xfrm>
          </p:grpSpPr>
          <p:sp>
            <p:nvSpPr>
              <p:cNvPr id="546" name="Line 58"/>
              <p:cNvSpPr/>
              <p:nvPr/>
            </p:nvSpPr>
            <p:spPr>
              <a:xfrm flipV="1">
                <a:off x="3554280" y="5410080"/>
                <a:ext cx="228600" cy="380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59"/>
              <p:cNvSpPr/>
              <p:nvPr/>
            </p:nvSpPr>
            <p:spPr>
              <a:xfrm>
                <a:off x="2438280" y="5790960"/>
                <a:ext cx="1752480" cy="10666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S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中小企业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60"/>
            <p:cNvGrpSpPr/>
            <p:nvPr/>
          </p:nvGrpSpPr>
          <p:grpSpPr>
            <a:xfrm>
              <a:off x="380880" y="4571640"/>
              <a:ext cx="2183040" cy="1143360"/>
              <a:chOff x="380880" y="4571640"/>
              <a:chExt cx="2183040" cy="1143360"/>
            </a:xfrm>
          </p:grpSpPr>
          <p:sp>
            <p:nvSpPr>
              <p:cNvPr id="549" name="Line 61"/>
              <p:cNvSpPr/>
              <p:nvPr/>
            </p:nvSpPr>
            <p:spPr>
              <a:xfrm flipV="1">
                <a:off x="1917720" y="4571640"/>
                <a:ext cx="646200" cy="330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62"/>
              <p:cNvSpPr/>
              <p:nvPr/>
            </p:nvSpPr>
            <p:spPr>
              <a:xfrm>
                <a:off x="380880" y="4648320"/>
                <a:ext cx="1752840" cy="10666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Multi-natio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多国籍企业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Oval 63"/>
            <p:cNvSpPr/>
            <p:nvPr/>
          </p:nvSpPr>
          <p:spPr>
            <a:xfrm>
              <a:off x="2335320" y="2057400"/>
              <a:ext cx="4316400" cy="3429000"/>
            </a:xfrm>
            <a:prstGeom prst="ellipse">
              <a:avLst/>
            </a:prstGeom>
            <a:gradFill rotWithShape="0">
              <a:gsLst>
                <a:gs pos="0">
                  <a:srgbClr val="da1f28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64"/>
            <p:cNvSpPr/>
            <p:nvPr/>
          </p:nvSpPr>
          <p:spPr>
            <a:xfrm>
              <a:off x="2325600" y="2057400"/>
              <a:ext cx="4316400" cy="3429000"/>
            </a:xfrm>
            <a:prstGeom prst="ellipse">
              <a:avLst/>
            </a:prstGeom>
            <a:gradFill rotWithShape="0">
              <a:gsLst>
                <a:gs pos="0">
                  <a:srgbClr val="da1f28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65"/>
            <p:cNvSpPr/>
            <p:nvPr/>
          </p:nvSpPr>
          <p:spPr>
            <a:xfrm>
              <a:off x="2341440" y="2052720"/>
              <a:ext cx="4316400" cy="3429000"/>
            </a:xfrm>
            <a:prstGeom prst="ellipse">
              <a:avLst/>
            </a:prstGeom>
            <a:gradFill rotWithShape="0">
              <a:gsLst>
                <a:gs pos="0">
                  <a:srgbClr val="da1f28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66"/>
            <p:cNvSpPr/>
            <p:nvPr/>
          </p:nvSpPr>
          <p:spPr>
            <a:xfrm>
              <a:off x="2335320" y="2049480"/>
              <a:ext cx="4316400" cy="342900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100000">
                  <a:srgbClr val="da1f2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67"/>
            <p:cNvGrpSpPr/>
            <p:nvPr/>
          </p:nvGrpSpPr>
          <p:grpSpPr>
            <a:xfrm>
              <a:off x="2200680" y="2278080"/>
              <a:ext cx="4449240" cy="3004920"/>
              <a:chOff x="2200680" y="2278080"/>
              <a:chExt cx="4449240" cy="3004920"/>
            </a:xfrm>
          </p:grpSpPr>
          <p:sp>
            <p:nvSpPr>
              <p:cNvPr id="556" name="Oval 68"/>
              <p:cNvSpPr/>
              <p:nvPr/>
            </p:nvSpPr>
            <p:spPr>
              <a:xfrm>
                <a:off x="3200400" y="3040200"/>
                <a:ext cx="2716200" cy="1447560"/>
              </a:xfrm>
              <a:prstGeom prst="ellipse">
                <a:avLst/>
              </a:prstGeom>
              <a:gradFill rotWithShape="0">
                <a:gsLst>
                  <a:gs pos="0">
                    <a:srgbClr val="2da2bf"/>
                  </a:gs>
                  <a:gs pos="100000">
                    <a:srgbClr val="1e6d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Knowledge-Bas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nov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以知识为本的创新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69"/>
              <p:cNvSpPr/>
              <p:nvPr/>
            </p:nvSpPr>
            <p:spPr>
              <a:xfrm>
                <a:off x="4011480" y="22780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Indus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产业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70"/>
              <p:cNvSpPr/>
              <p:nvPr/>
            </p:nvSpPr>
            <p:spPr>
              <a:xfrm>
                <a:off x="2200680" y="3192480"/>
                <a:ext cx="1007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研发机构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R&amp;D Institu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71"/>
              <p:cNvSpPr/>
              <p:nvPr/>
            </p:nvSpPr>
            <p:spPr>
              <a:xfrm>
                <a:off x="5920920" y="3192480"/>
                <a:ext cx="729000" cy="12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政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Govern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72"/>
              <p:cNvSpPr/>
              <p:nvPr/>
            </p:nvSpPr>
            <p:spPr>
              <a:xfrm>
                <a:off x="3935520" y="46404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微軟正黑體"/>
                  </a:rPr>
                  <a:t>Academ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学术界</a:t>
                </a: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微軟正黑體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Text Box 73"/>
            <p:cNvSpPr/>
            <p:nvPr/>
          </p:nvSpPr>
          <p:spPr>
            <a:xfrm>
              <a:off x="7315200" y="601992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珍珠图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74"/>
          <p:cNvGrpSpPr/>
          <p:nvPr/>
        </p:nvGrpSpPr>
        <p:grpSpPr>
          <a:xfrm>
            <a:off x="0" y="2819520"/>
            <a:ext cx="2335320" cy="1066680"/>
            <a:chOff x="0" y="2819520"/>
            <a:chExt cx="2335320" cy="1066680"/>
          </a:xfrm>
        </p:grpSpPr>
        <p:sp>
          <p:nvSpPr>
            <p:cNvPr id="563" name="Line 75"/>
            <p:cNvSpPr/>
            <p:nvPr/>
          </p:nvSpPr>
          <p:spPr>
            <a:xfrm>
              <a:off x="1725480" y="3414600"/>
              <a:ext cx="609840" cy="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76"/>
            <p:cNvSpPr/>
            <p:nvPr/>
          </p:nvSpPr>
          <p:spPr>
            <a:xfrm>
              <a:off x="0" y="2819520"/>
              <a:ext cx="1752480" cy="10666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微軟正黑體"/>
                </a:rPr>
                <a:t>R&amp;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研究与发展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77"/>
          <p:cNvSpPr/>
          <p:nvPr/>
        </p:nvSpPr>
        <p:spPr>
          <a:xfrm>
            <a:off x="34920" y="44280"/>
            <a:ext cx="6894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4646"/>
                </a:solidFill>
                <a:latin typeface="Lucida Sans Unicode"/>
                <a:ea typeface="標楷體"/>
              </a:rPr>
              <a:t>二、知识产权之价值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Rectangle 2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67" name="群組 28"/>
          <p:cNvGrpSpPr/>
          <p:nvPr/>
        </p:nvGrpSpPr>
        <p:grpSpPr>
          <a:xfrm>
            <a:off x="714240" y="1000080"/>
            <a:ext cx="6935760" cy="4908600"/>
            <a:chOff x="714240" y="1000080"/>
            <a:chExt cx="6935760" cy="4908600"/>
          </a:xfrm>
        </p:grpSpPr>
        <p:sp>
          <p:nvSpPr>
            <p:cNvPr id="568" name="Oval 3"/>
            <p:cNvSpPr/>
            <p:nvPr/>
          </p:nvSpPr>
          <p:spPr>
            <a:xfrm>
              <a:off x="2101680" y="1000080"/>
              <a:ext cx="5548320" cy="4908600"/>
            </a:xfrm>
            <a:prstGeom prst="ellipse">
              <a:avLst/>
            </a:prstGeom>
            <a:noFill/>
            <a:ln w="38160">
              <a:solidFill>
                <a:srgbClr val="421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"/>
            <p:cNvSpPr/>
            <p:nvPr/>
          </p:nvSpPr>
          <p:spPr>
            <a:xfrm>
              <a:off x="3681360" y="2390760"/>
              <a:ext cx="2440080" cy="776160"/>
            </a:xfrm>
            <a:prstGeom prst="ellipse">
              <a:avLst/>
            </a:prstGeom>
            <a:noFill/>
            <a:ln w="28440">
              <a:solidFill>
                <a:srgbClr val="421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Knowledge 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5"/>
            <p:cNvSpPr/>
            <p:nvPr/>
          </p:nvSpPr>
          <p:spPr>
            <a:xfrm>
              <a:off x="4387680" y="3244680"/>
              <a:ext cx="93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rodu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Mf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2950920" y="3240000"/>
              <a:ext cx="8222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Inv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(R&amp;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5878440" y="324000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S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(Market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8"/>
            <p:cNvSpPr/>
            <p:nvPr/>
          </p:nvSpPr>
          <p:spPr>
            <a:xfrm>
              <a:off x="4388400" y="1796760"/>
              <a:ext cx="82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Prot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(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9"/>
            <p:cNvSpPr/>
            <p:nvPr/>
          </p:nvSpPr>
          <p:spPr>
            <a:xfrm>
              <a:off x="2831760" y="1658880"/>
              <a:ext cx="4095720" cy="3729240"/>
            </a:xfrm>
            <a:prstGeom prst="ellipse">
              <a:avLst/>
            </a:prstGeom>
            <a:noFill/>
            <a:ln w="28440">
              <a:solidFill>
                <a:srgbClr val="421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>
              <a:off x="4844880" y="3870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1"/>
            <p:cNvSpPr/>
            <p:nvPr/>
          </p:nvSpPr>
          <p:spPr>
            <a:xfrm>
              <a:off x="4386240" y="441972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Analy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4844880" y="1126800"/>
              <a:ext cx="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>
              <a:off x="4844880" y="5470560"/>
              <a:ext cx="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4631760" y="4721400"/>
              <a:ext cx="239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(Business strate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Competitive intelligenc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5"/>
            <p:cNvSpPr/>
            <p:nvPr/>
          </p:nvSpPr>
          <p:spPr>
            <a:xfrm>
              <a:off x="5073480" y="1228680"/>
              <a:ext cx="1143000" cy="474480"/>
            </a:xfrm>
            <a:prstGeom prst="ellipse">
              <a:avLst/>
            </a:prstGeom>
            <a:noFill/>
            <a:ln w="28440">
              <a:solidFill>
                <a:srgbClr val="421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6"/>
            <p:cNvSpPr/>
            <p:nvPr/>
          </p:nvSpPr>
          <p:spPr>
            <a:xfrm>
              <a:off x="5136840" y="127440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2253960" y="35654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3701880" y="3578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5454720" y="3578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0"/>
            <p:cNvSpPr/>
            <p:nvPr/>
          </p:nvSpPr>
          <p:spPr>
            <a:xfrm>
              <a:off x="7054920" y="356544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21"/>
            <p:cNvSpPr/>
            <p:nvPr/>
          </p:nvSpPr>
          <p:spPr>
            <a:xfrm rot="20596200">
              <a:off x="2558880" y="3870000"/>
              <a:ext cx="1828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 rot="20615400">
              <a:off x="2558880" y="4022280"/>
              <a:ext cx="188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Technology trans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3"/>
            <p:cNvSpPr/>
            <p:nvPr/>
          </p:nvSpPr>
          <p:spPr>
            <a:xfrm rot="3621600">
              <a:off x="3168000" y="4632120"/>
              <a:ext cx="129528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Licen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14240" y="5015160"/>
              <a:ext cx="20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軟正黑體"/>
                </a:rPr>
                <a:t>Move from IP to 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Rectangle 25"/>
          <p:cNvSpPr/>
          <p:nvPr/>
        </p:nvSpPr>
        <p:spPr>
          <a:xfrm>
            <a:off x="4929120" y="6000840"/>
            <a:ext cx="4214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Willy Manfroy</a:t>
            </a:r>
            <a:r>
              <a:rPr b="0" i="1" lang="zh-TW" sz="1400" spc="-1" strike="noStrike">
                <a:solidFill>
                  <a:srgbClr val="000000"/>
                </a:solidFill>
                <a:latin typeface="SimSun"/>
                <a:ea typeface="SimSun"/>
              </a:rPr>
              <a:t>（</a:t>
            </a: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President LES International and Bornival llc</a:t>
            </a:r>
            <a:r>
              <a:rPr b="0" i="1" lang="zh-TW" sz="1400" spc="-1" strike="noStrike">
                <a:solidFill>
                  <a:srgbClr val="000000"/>
                </a:solidFill>
                <a:latin typeface="SimSun"/>
                <a:ea typeface="SimSun"/>
              </a:rPr>
              <a:t>）：</a:t>
            </a:r>
            <a:r>
              <a:rPr b="0" i="1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Intellectual Assets Management North American Best practices, Taipei, March 12,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08:21Z</dcterms:created>
  <dc:creator>Adam Tang</dc:creator>
  <dc:description/>
  <dc:language>en-US</dc:language>
  <cp:lastModifiedBy>雨林木风</cp:lastModifiedBy>
  <dcterms:modified xsi:type="dcterms:W3CDTF">2009-05-13T06:26:29Z</dcterms:modified>
  <cp:revision>26</cp:revision>
  <dc:subject/>
  <dc:title>計畫宗旨</dc:title>
</cp:coreProperties>
</file>