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22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3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 type="sldNum" idx="24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3AA24-B0AB-442E-9804-03011732F41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8C3D-C773-4697-8DA2-38906D4E566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E15-C39A-4775-998E-66B19DD8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AA8-E269-4F8C-AB65-FAE86441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1B6-F1DD-4D0E-A9F4-EA9D54B3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232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96060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240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9232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96060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9A7-1B8C-4017-B39A-ECE8DC54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531-4EC2-46C1-9D40-CB070930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CFB3-9AB5-4389-8F6B-08207CD8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FBFC-B248-40FB-93EA-4FA80781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752B-528D-46DC-8075-62F08021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390A-5E92-4C7D-85A1-B5233B04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41C0-A51E-4D40-AE2A-4F632E0A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A489-8779-4F9F-BFDA-B7C9387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666-4CDB-4E33-9FCD-EA9B94CE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6D6C-9050-4247-A1AE-5B0FAC3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47A3-3502-410C-916D-CF270346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C427-7D15-4825-B6C0-93BFC043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A32D-4023-4782-995E-2699FEB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9232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6060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240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9232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96060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5EBC-22F7-449C-B1E7-58D96B50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7646-E988-4D20-8D7E-0A206C0B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8E15-4B2D-4B36-A2DA-5D128492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FDE8-E7B2-4B5A-9988-3980A992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9BB2-959D-4658-8783-6C98804C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BDAF-0422-4354-B6DD-4D019B2A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4BE-C6FA-42CA-930A-BCF46A4D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525A-CDCC-4C7E-8632-91AF6CC4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D156-C1BD-4AF7-AB05-FBBE9BE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74AF-3FF0-44C6-B276-B7A002F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F37F-4EDC-4BDD-BB97-EF8C7205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629F-8FCD-47FA-B964-CFC2535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4839-6595-4D61-9818-5E863B33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9232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96060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240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9232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96060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3AD0-2990-4DD0-8958-21AAEA08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4B59-7520-4F64-BDC2-D68E5E49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116A-E127-40A6-9E14-D6091501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6A36B-A2E6-4684-B40F-588185B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5F6-B0EB-4DB6-BA38-7D8A4720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4EDAE-9ED3-49F9-89E9-6FA707F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4532-3FBF-4DBE-BF13-3F7473B8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57B88-EC37-4061-91A2-72D5B23C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F1EC-3363-43E2-B196-52C42BD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6D80-FD04-4460-A5DA-80F4212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187F-77CF-4D05-B1E4-702364B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9684-E12B-4EB0-947E-907F7BA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44D71-FD67-44DF-BD41-B76616DB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9232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96060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8240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89232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96060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589A-6056-469F-BFF8-1D2F6A49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D4530-4ED1-4714-814F-5CAE649D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1CB-A5DE-4149-8FF1-A1D623BC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F86D-DAB8-47D4-A524-FE6FF40F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CCF6-EF6F-4FDF-964D-F8E55703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A757-A391-47D5-9352-820A88A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0678-5A2D-4892-AE35-3494E8B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9082D-ED28-4BAE-B47C-144423E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2E18-C8C2-466F-9D38-9CAC794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66769-BC19-48DF-8093-664D5E0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D81F-9B1B-4E04-A6CB-A4DC7FB0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B2D93-DD74-4FA0-A29D-84AE5F8C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C0076-E751-4DF5-B45D-735ACD08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595-0FAD-4A8F-8E68-409F9129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89232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96060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240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89232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96060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A8BEE-904F-4040-8FA6-D5DB97E9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913F-81F2-4212-9EE8-D140BBD7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5367-FF6F-4535-B133-7685CB03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DD2E-AE0A-41FE-B9D2-7CA9B717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FFFE-5B08-4324-9FA7-EB42C44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4C690-1C40-4A2B-B4B9-5068ACEF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9B65-7B38-4755-A1BB-9B83DDE2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CB19-D999-43D7-8076-2366F9B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F116-6ED7-4ED1-BE07-FA5A29E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FFDA-B662-4BDA-9DD5-3E35C89C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F14-C3D4-483E-9DA0-E151CB5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F3D5-E082-48CF-ABBB-09799273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820F1-44D7-4115-A0EA-04B4C72D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9232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060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240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9232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060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B599-AAA8-4B9C-9BB1-0CBDC481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2566-8F36-4CBE-8BAB-1ABC2AA6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4410-9E97-41BF-A936-521BD1D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EFA6-602A-418A-B8BC-5F0A32A9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19F3-55BD-49CF-ABB1-66F1B06B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B656C-1D4F-4001-A0F8-5B354D29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0203-6989-42FA-A8BF-CA8F4DBA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25FE0-D4C9-49B3-A52F-4E83E529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A88-5B18-46F5-A7E9-F82DBE1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0905-5130-4A3B-9FD5-8456BBBF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4460-B37F-4222-BE0F-2C2B8A2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D247-7288-4452-8892-CE9AB3DF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47380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4597-597B-4572-BC1D-B6002F5D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9232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96060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8240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89232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96060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6BEBB-9DBA-496D-A081-2EA32582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4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7380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404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766-9776-4291-9EC4-2E6A112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5B5D39-1374-496A-AACE-0DC9B8A0E7FB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" descr="\\Tpfs03\marketing\digimax\logo\logo_CMYK605400.png"/>
          <p:cNvPicPr/>
          <p:nvPr/>
        </p:nvPicPr>
        <p:blipFill>
          <a:blip r:embed="rId4"/>
          <a:stretch/>
        </p:blipFill>
        <p:spPr>
          <a:xfrm>
            <a:off x="7543800" y="6993000"/>
            <a:ext cx="2536920" cy="56664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0"/>
          <p:cNvSpPr/>
          <p:nvPr/>
        </p:nvSpPr>
        <p:spPr>
          <a:xfrm rot="1820400">
            <a:off x="8541000" y="191520"/>
            <a:ext cx="1994040" cy="283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標楷體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角三角形 16"/>
          <p:cNvSpPr/>
          <p:nvPr/>
        </p:nvSpPr>
        <p:spPr>
          <a:xfrm>
            <a:off x="0" y="514188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50040" bIns="-50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群組 18"/>
          <p:cNvGrpSpPr/>
          <p:nvPr/>
        </p:nvGrpSpPr>
        <p:grpSpPr>
          <a:xfrm>
            <a:off x="-4680" y="5459400"/>
            <a:ext cx="10085400" cy="2108160"/>
            <a:chOff x="-4680" y="5459400"/>
            <a:chExt cx="10085400" cy="2108160"/>
          </a:xfrm>
        </p:grpSpPr>
        <p:sp>
          <p:nvSpPr>
            <p:cNvPr id="51" name="手繪多邊形 19"/>
            <p:cNvSpPr/>
            <p:nvPr/>
          </p:nvSpPr>
          <p:spPr>
            <a:xfrm>
              <a:off x="1865160" y="5459400"/>
              <a:ext cx="8207280" cy="5371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手繪多邊形 20"/>
            <p:cNvSpPr/>
            <p:nvPr/>
          </p:nvSpPr>
          <p:spPr>
            <a:xfrm>
              <a:off x="45360" y="5772960"/>
              <a:ext cx="10027080" cy="86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手繪多邊形 22"/>
            <p:cNvGrpSpPr/>
            <p:nvPr/>
          </p:nvGrpSpPr>
          <p:grpSpPr>
            <a:xfrm>
              <a:off x="1080" y="5504400"/>
              <a:ext cx="10079640" cy="2063160"/>
              <a:chOff x="1080" y="5504400"/>
              <a:chExt cx="10079640" cy="2063160"/>
            </a:xfrm>
          </p:grpSpPr>
          <p:pic>
            <p:nvPicPr>
              <p:cNvPr id="54" name="手繪多邊形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504400"/>
                <a:ext cx="10079640" cy="206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6480" y="5511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直線接點 23" descr=""/>
            <p:cNvPicPr/>
            <p:nvPr/>
          </p:nvPicPr>
          <p:blipFill>
            <a:blip r:embed="rId3"/>
            <a:stretch/>
          </p:blipFill>
          <p:spPr>
            <a:xfrm>
              <a:off x="-4680" y="5498280"/>
              <a:ext cx="10085400" cy="89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2" descr="\\Tpfs03\marketing\digimax\logo\logo_CMYK605400.png"/>
          <p:cNvPicPr/>
          <p:nvPr/>
        </p:nvPicPr>
        <p:blipFill>
          <a:blip r:embed="rId4"/>
          <a:stretch/>
        </p:blipFill>
        <p:spPr>
          <a:xfrm>
            <a:off x="7543800" y="4923000"/>
            <a:ext cx="2536920" cy="56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 rot="1820400">
            <a:off x="8541000" y="191520"/>
            <a:ext cx="1994040" cy="283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標楷體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03A6F7-5F51-4F23-BD51-6B80E75BF29B}" type="slidenum">
              <a:rPr b="0" lang="en-GB" sz="11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手繪多邊形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直角三角形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0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直線接點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\\Tpfs03\marketing\digimax\logo\logo_CMYK605400.png"/>
          <p:cNvPicPr/>
          <p:nvPr/>
        </p:nvPicPr>
        <p:blipFill>
          <a:blip r:embed="rId4"/>
          <a:stretch/>
        </p:blipFill>
        <p:spPr>
          <a:xfrm>
            <a:off x="7543800" y="6993000"/>
            <a:ext cx="2536920" cy="566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 rot="1820400">
            <a:off x="8541000" y="191520"/>
            <a:ext cx="1994040" cy="283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標楷體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接點 16"/>
          <p:cNvSpPr/>
          <p:nvPr/>
        </p:nvSpPr>
        <p:spPr>
          <a:xfrm>
            <a:off x="396720" y="1565280"/>
            <a:ext cx="9286920" cy="144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67F2D0-D505-4B22-B665-6B0B2D3D269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手繪多邊形 12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手繪多邊形 11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直角三角形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5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直線接點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\\Tpfs03\marketing\digimax\logo\logo_CMYK605400.png"/>
          <p:cNvPicPr/>
          <p:nvPr/>
        </p:nvPicPr>
        <p:blipFill>
          <a:blip r:embed="rId4"/>
          <a:stretch/>
        </p:blipFill>
        <p:spPr>
          <a:xfrm>
            <a:off x="7543800" y="6993000"/>
            <a:ext cx="2536920" cy="566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 rot="1820400">
            <a:off x="8541000" y="191520"/>
            <a:ext cx="1994040" cy="283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標楷體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＞形箭號 16"/>
          <p:cNvSpPr/>
          <p:nvPr/>
        </p:nvSpPr>
        <p:spPr>
          <a:xfrm>
            <a:off x="400860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＞形箭號 18"/>
          <p:cNvSpPr/>
          <p:nvPr/>
        </p:nvSpPr>
        <p:spPr>
          <a:xfrm>
            <a:off x="380376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C4C99A-74E6-44D5-B206-386C393FB440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B2B8C0-279B-48F4-9090-BA9B6B06D3C8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4B6851-4CFD-4BA0-A1BF-36B899AC90B6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手繪多邊形 16"/>
          <p:cNvSpPr/>
          <p:nvPr/>
        </p:nvSpPr>
        <p:spPr>
          <a:xfrm>
            <a:off x="790560" y="5513400"/>
            <a:ext cx="4191120" cy="159084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手繪多邊形 18"/>
          <p:cNvSpPr/>
          <p:nvPr/>
        </p:nvSpPr>
        <p:spPr>
          <a:xfrm>
            <a:off x="-58680" y="6377040"/>
            <a:ext cx="4191120" cy="9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直角三角形 19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86" name="直角三角形 19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直線接點 20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89" name="＞形箭號 22"/>
          <p:cNvSpPr/>
          <p:nvPr/>
        </p:nvSpPr>
        <p:spPr>
          <a:xfrm>
            <a:off x="955188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＞形箭號 23"/>
          <p:cNvSpPr/>
          <p:nvPr/>
        </p:nvSpPr>
        <p:spPr>
          <a:xfrm>
            <a:off x="934560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2404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7804B9-57A6-46C4-9CA8-2F37E9015DEB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thecastrotheatre.com/new/buttons/film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標題 2" descr=""/>
          <p:cNvPicPr/>
          <p:nvPr/>
        </p:nvPicPr>
        <p:blipFill>
          <a:blip r:embed="rId1"/>
          <a:stretch/>
        </p:blipFill>
        <p:spPr>
          <a:xfrm>
            <a:off x="-289080" y="1476360"/>
            <a:ext cx="1073016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標題 2" descr=""/>
          <p:cNvPicPr/>
          <p:nvPr/>
        </p:nvPicPr>
        <p:blipFill>
          <a:blip r:embed="rId1"/>
          <a:stretch/>
        </p:blipFill>
        <p:spPr>
          <a:xfrm>
            <a:off x="219240" y="298440"/>
            <a:ext cx="9362880" cy="1268280"/>
          </a:xfrm>
          <a:prstGeom prst="rect">
            <a:avLst/>
          </a:prstGeom>
          <a:ln w="0">
            <a:noFill/>
          </a:ln>
        </p:spPr>
      </p:pic>
      <p:sp>
        <p:nvSpPr>
          <p:cNvPr id="357" name="Oval 3"/>
          <p:cNvSpPr/>
          <p:nvPr/>
        </p:nvSpPr>
        <p:spPr>
          <a:xfrm>
            <a:off x="1635120" y="2641680"/>
            <a:ext cx="2133720" cy="213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81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两岸四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"/>
          <p:cNvSpPr/>
          <p:nvPr/>
        </p:nvSpPr>
        <p:spPr>
          <a:xfrm>
            <a:off x="3083040" y="416556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亚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区域发行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5"/>
          <p:cNvSpPr/>
          <p:nvPr/>
        </p:nvSpPr>
        <p:spPr>
          <a:xfrm>
            <a:off x="1558800" y="439416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imSun"/>
                <a:ea typeface="SimSun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imSun"/>
                <a:ea typeface="SimSun"/>
              </a:rPr>
              <a:t>电脑动画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6"/>
          <p:cNvSpPr/>
          <p:nvPr/>
        </p:nvSpPr>
        <p:spPr>
          <a:xfrm>
            <a:off x="568440" y="332748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研发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film">
            <a:hlinkClick r:id="rId2"/>
          </p:cNvPr>
          <p:cNvPicPr/>
          <p:nvPr/>
        </p:nvPicPr>
        <p:blipFill>
          <a:blip r:embed="rId3"/>
          <a:srcRect l="6705" t="3814" r="9555" b="4768"/>
          <a:stretch/>
        </p:blipFill>
        <p:spPr>
          <a:xfrm>
            <a:off x="5064120" y="447048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Oval 8"/>
          <p:cNvSpPr/>
          <p:nvPr/>
        </p:nvSpPr>
        <p:spPr>
          <a:xfrm>
            <a:off x="7655040" y="332748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美国及欧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区域发行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AutoShape 9"/>
          <p:cNvCxnSpPr>
            <a:stCxn id="357" idx="6"/>
          </p:cNvCxnSpPr>
          <p:nvPr/>
        </p:nvCxnSpPr>
        <p:spPr>
          <a:xfrm>
            <a:off x="3768840" y="3708000"/>
            <a:ext cx="2248560" cy="762840"/>
          </a:xfrm>
          <a:prstGeom prst="curvedConnector2">
            <a:avLst/>
          </a:prstGeom>
          <a:ln w="38160">
            <a:solidFill>
              <a:srgbClr val="44b9e8"/>
            </a:solidFill>
            <a:miter/>
            <a:tailEnd len="lg" type="stealth" w="med"/>
          </a:ln>
        </p:spPr>
      </p:cxnSp>
      <p:cxnSp>
        <p:nvCxnSpPr>
          <p:cNvPr id="364" name="AutoShape 10"/>
          <p:cNvCxnSpPr>
            <a:stCxn id="365" idx="2"/>
          </p:cNvCxnSpPr>
          <p:nvPr/>
        </p:nvCxnSpPr>
        <p:spPr>
          <a:xfrm flipV="1" rot="10800000">
            <a:off x="6015960" y="2641320"/>
            <a:ext cx="1334160" cy="1829520"/>
          </a:xfrm>
          <a:prstGeom prst="curvedConnector2">
            <a:avLst/>
          </a:prstGeom>
          <a:ln w="38160">
            <a:solidFill>
              <a:srgbClr val="44b9e8"/>
            </a:solidFill>
            <a:miter/>
            <a:tailEnd len="lg" type="stealth" w="med"/>
          </a:ln>
        </p:spPr>
      </p:cxnSp>
      <p:sp>
        <p:nvSpPr>
          <p:cNvPr id="366" name="Text Box 11"/>
          <p:cNvSpPr/>
          <p:nvPr/>
        </p:nvSpPr>
        <p:spPr>
          <a:xfrm>
            <a:off x="3894480" y="2717640"/>
            <a:ext cx="21801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SimSun"/>
                <a:ea typeface="SimSun"/>
              </a:rPr>
              <a:t>国际共同开发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SimSun"/>
                <a:ea typeface="SimSun"/>
              </a:rPr>
              <a:t>拥有版权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Co-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Co-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2"/>
          <p:cNvCxnSpPr>
            <a:endCxn id="359" idx="4"/>
          </p:cNvCxnSpPr>
          <p:nvPr/>
        </p:nvCxnSpPr>
        <p:spPr>
          <a:xfrm flipV="1" rot="16200000">
            <a:off x="3749040" y="4031640"/>
            <a:ext cx="686520" cy="384876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38160">
            <a:solidFill>
              <a:srgbClr val="44b9e8"/>
            </a:solidFill>
            <a:miter/>
            <a:tailEnd len="lg" type="stealth" w="med"/>
          </a:ln>
        </p:spPr>
      </p:cxnSp>
      <p:cxnSp>
        <p:nvCxnSpPr>
          <p:cNvPr id="368" name="AutoShape 13"/>
          <p:cNvCxnSpPr>
            <a:endCxn id="358" idx="5"/>
          </p:cNvCxnSpPr>
          <p:nvPr/>
        </p:nvCxnSpPr>
        <p:spPr>
          <a:xfrm rot="10800000">
            <a:off x="4123440" y="5207040"/>
            <a:ext cx="940680" cy="178200"/>
          </a:xfrm>
          <a:prstGeom prst="curvedConnector2">
            <a:avLst/>
          </a:prstGeom>
          <a:ln w="38160">
            <a:solidFill>
              <a:srgbClr val="44b9e8"/>
            </a:solidFill>
            <a:miter/>
            <a:tailEnd len="lg" type="stealth" w="med"/>
          </a:ln>
        </p:spPr>
      </p:cxnSp>
      <p:cxnSp>
        <p:nvCxnSpPr>
          <p:cNvPr id="369" name="AutoShape 14"/>
          <p:cNvCxnSpPr>
            <a:endCxn id="362" idx="4"/>
          </p:cNvCxnSpPr>
          <p:nvPr/>
        </p:nvCxnSpPr>
        <p:spPr>
          <a:xfrm flipV="1">
            <a:off x="6969240" y="4622040"/>
            <a:ext cx="1334160" cy="762840"/>
          </a:xfrm>
          <a:prstGeom prst="curvedConnector2">
            <a:avLst/>
          </a:prstGeom>
          <a:ln w="38160">
            <a:solidFill>
              <a:srgbClr val="44b9e8"/>
            </a:solidFill>
            <a:miter/>
            <a:tailEnd len="lg" type="stealth" w="med"/>
          </a:ln>
        </p:spPr>
      </p:cxnSp>
      <p:sp>
        <p:nvSpPr>
          <p:cNvPr id="370" name="Text Box 15"/>
          <p:cNvSpPr/>
          <p:nvPr/>
        </p:nvSpPr>
        <p:spPr>
          <a:xfrm>
            <a:off x="3768840" y="5460840"/>
            <a:ext cx="1295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Narrow"/>
                <a:ea typeface="SimSun"/>
              </a:rPr>
              <a:t>亚洲发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2687760" y="6527880"/>
            <a:ext cx="1177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3D</a:t>
            </a:r>
            <a:r>
              <a:rPr b="0" lang="zh-CN" sz="2000" spc="-1" strike="noStrike">
                <a:solidFill>
                  <a:srgbClr val="000000"/>
                </a:solidFill>
                <a:latin typeface="SimSun"/>
                <a:ea typeface="SimSun"/>
              </a:rPr>
              <a:t>动画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7578720" y="5216400"/>
            <a:ext cx="16765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SimSun"/>
                <a:ea typeface="SimSun"/>
              </a:rPr>
              <a:t>亚洲以外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SimSun"/>
                <a:ea typeface="SimSun"/>
              </a:rPr>
              <a:t>国际发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Co-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6015960" y="6435720"/>
            <a:ext cx="1697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SimSun"/>
                <a:ea typeface="SimSun"/>
              </a:rPr>
              <a:t>双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Co-Br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6332760" y="6054840"/>
            <a:ext cx="1177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SimSun"/>
              </a:rPr>
              <a:t>3D</a:t>
            </a:r>
            <a:r>
              <a:rPr b="0" lang="zh-CN" sz="2000" spc="-1" strike="noStrike">
                <a:solidFill>
                  <a:srgbClr val="000000"/>
                </a:solidFill>
                <a:latin typeface="SimSun"/>
                <a:ea typeface="SimSun"/>
              </a:rPr>
              <a:t>动画电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0"/>
          <p:cNvSpPr/>
          <p:nvPr/>
        </p:nvSpPr>
        <p:spPr>
          <a:xfrm>
            <a:off x="7350120" y="203184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国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SimSun"/>
              </a:rPr>
              <a:t>创意人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24040" y="200628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SimSun"/>
                <a:ea typeface="SimSun"/>
              </a:rPr>
              <a:t>好莱坞的新兴成功方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SimSun"/>
                <a:ea typeface="SimSun"/>
              </a:rPr>
              <a:t>好莱坞与硅谷合作之经典范例：</a:t>
            </a:r>
            <a:r>
              <a:rPr b="1" lang="en-US" sz="4000" spc="-1" strike="noStrike">
                <a:solidFill>
                  <a:srgbClr val="000000"/>
                </a:solidFill>
                <a:latin typeface="SimSun"/>
                <a:ea typeface="SimSun"/>
              </a:rPr>
              <a:t>Time Warner+AOL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  <a:ea typeface="SimSu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SimSun"/>
                <a:ea typeface="SimSun"/>
              </a:rPr>
              <a:t>NBC+GE+Microsoft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  <a:ea typeface="SimSu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SimSun"/>
                <a:ea typeface="SimSun"/>
              </a:rPr>
              <a:t>Disney+Apple…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SimSun"/>
                <a:ea typeface="SimSun"/>
              </a:rPr>
              <a:t>华人文化将是另一个风潮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263520" indent="-2635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SimSun"/>
                <a:ea typeface="SimSun"/>
              </a:rPr>
              <a:t>全球超过</a:t>
            </a:r>
            <a:r>
              <a:rPr b="1" lang="en-US" sz="4000" spc="-1" strike="noStrike">
                <a:solidFill>
                  <a:srgbClr val="000000"/>
                </a:solidFill>
                <a:latin typeface="SimSun"/>
                <a:ea typeface="SimSun"/>
              </a:rPr>
              <a:t>1/5</a:t>
            </a:r>
            <a:r>
              <a:rPr b="1" lang="zh-TW" sz="4000" spc="-1" strike="noStrike">
                <a:solidFill>
                  <a:srgbClr val="000000"/>
                </a:solidFill>
                <a:latin typeface="SimSun"/>
                <a:ea typeface="SimSun"/>
              </a:rPr>
              <a:t>的华文人口、塑造出全球最大的文化创意产业市场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263520" indent="-2635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1" name="標題 2" descr=""/>
          <p:cNvPicPr/>
          <p:nvPr/>
        </p:nvPicPr>
        <p:blipFill>
          <a:blip r:embed="rId1"/>
          <a:stretch/>
        </p:blipFill>
        <p:spPr>
          <a:xfrm>
            <a:off x="255600" y="103320"/>
            <a:ext cx="932652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609480" y="179208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电脑动画设备成本大幅降低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过去十年间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(1998~2008) 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每人平均设备成本支出降低至</a:t>
            </a:r>
            <a:r>
              <a:rPr b="1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10/1</a:t>
            </a: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以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大幅提高制作流程自动化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二维动画需运用大量人力绘制图像，电脑动画则运用电脑计算每格画面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节省人力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提升创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修改容易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重覆使用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Sun"/>
                <a:ea typeface="SimSun"/>
              </a:rPr>
              <a:t>随着电脑运算能力的不断提升、可产生更高画质的视觉效果、因应高画质时代的来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3" name="標題 2" descr=""/>
          <p:cNvPicPr/>
          <p:nvPr/>
        </p:nvPicPr>
        <p:blipFill>
          <a:blip r:embed="rId1"/>
          <a:stretch/>
        </p:blipFill>
        <p:spPr>
          <a:xfrm>
            <a:off x="255600" y="103320"/>
            <a:ext cx="951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09480" y="200628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年皮克斯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(Pixar)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推出第一部电脑动画电影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玩具总动员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(Toy Story)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，造成电脑动画电影的风潮，不仅打败包含二维动画电影迪士尼年度钜献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风中奇缘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(Pocahontas)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，更一举拿下年度全美票房总冠军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约美金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1.9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1998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年后，每年市场至少推出一部电脑动画电影，且每年票房皆胜过二维动画电影，电脑动画电影时代正式到来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年开始，更是电脑动画电影蓬勃发展的时代，是年开始，每年市场上皆至少推出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部电脑动画电影，成绩皆不俗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年开始，皮克斯、梦工厂等动画巨擘先后宣布未来全面退出二维动画电影市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北美历史票房百大排行纪录中，至今有超过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  <a:ea typeface="SimSun"/>
              </a:rPr>
              <a:t>1/6</a:t>
            </a:r>
            <a:r>
              <a:rPr b="0" lang="zh-CN" sz="2400" spc="-1" strike="noStrike">
                <a:solidFill>
                  <a:srgbClr val="000000"/>
                </a:solidFill>
                <a:latin typeface="SimSun"/>
                <a:ea typeface="SimSun"/>
              </a:rPr>
              <a:t>是电脑动画电影，比例逐年增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5" name="標題 2" descr=""/>
          <p:cNvPicPr/>
          <p:nvPr/>
        </p:nvPicPr>
        <p:blipFill>
          <a:blip r:embed="rId1"/>
          <a:stretch/>
        </p:blipFill>
        <p:spPr>
          <a:xfrm>
            <a:off x="219240" y="298440"/>
            <a:ext cx="93628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09480" y="186336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1994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年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~2003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年所上映的二维动画电影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平均制作成本约美金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0.92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全球平均票房约美金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2.6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平均票房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/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平均制作成本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=2.89&lt;3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7" name="標題 2" descr=""/>
          <p:cNvPicPr/>
          <p:nvPr/>
        </p:nvPicPr>
        <p:blipFill>
          <a:blip r:embed="rId1"/>
          <a:stretch/>
        </p:blipFill>
        <p:spPr>
          <a:xfrm>
            <a:off x="249120" y="298440"/>
            <a:ext cx="9333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09480" y="186336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1995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年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~2004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年所上映的电脑动画电影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平均制作成本约美金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0.95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全球平均票房约美金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4.3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平均票房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/</a:t>
            </a:r>
            <a:r>
              <a:rPr b="1" lang="zh-CN" sz="4100" spc="-1" strike="noStrike">
                <a:solidFill>
                  <a:srgbClr val="000000"/>
                </a:solidFill>
                <a:latin typeface="SimSun"/>
                <a:ea typeface="SimSun"/>
              </a:rPr>
              <a:t>平均制作成本</a:t>
            </a:r>
            <a:r>
              <a:rPr b="1" lang="en-US" sz="4100" spc="-1" strike="noStrike">
                <a:solidFill>
                  <a:srgbClr val="000000"/>
                </a:solidFill>
                <a:latin typeface="SimSun"/>
                <a:ea typeface="SimSun"/>
              </a:rPr>
              <a:t>=4.53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9" name="標題 2" descr=""/>
          <p:cNvPicPr/>
          <p:nvPr/>
        </p:nvPicPr>
        <p:blipFill>
          <a:blip r:embed="rId1"/>
          <a:stretch/>
        </p:blipFill>
        <p:spPr>
          <a:xfrm>
            <a:off x="249120" y="298440"/>
            <a:ext cx="9333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09480" y="200628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电脑动画电影主要营收来源包含：戏院票房、家庭影音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Home Video/DVD)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、电视授权、周边商品及后续影音发展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统计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1995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年至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2004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年所上映的电脑动画电影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平均制作成本约美金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0.95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全球平均票房约美金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4.3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平均家庭影视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Home Video/DVD)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收入约为美金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5.4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亿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不含电视播放授权及周边收入，总营收已达制作成本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倍以上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1" name="標題 2" descr=""/>
          <p:cNvPicPr/>
          <p:nvPr/>
        </p:nvPicPr>
        <p:blipFill>
          <a:blip r:embed="rId1"/>
          <a:stretch/>
        </p:blipFill>
        <p:spPr>
          <a:xfrm>
            <a:off x="231840" y="36360"/>
            <a:ext cx="9350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09480" y="1935000"/>
            <a:ext cx="90741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好莱坞的动画电影产业，是由主要发行商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Major Studio)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与动画公司结盟制作动画电影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三大动画电影公司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迪士尼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Disney)+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皮克斯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Pixa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梦工厂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Dream Works SKG)+</a:t>
            </a: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梦工厂动画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Dream Work Animations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福斯</a:t>
            </a:r>
            <a:r>
              <a:rPr b="1" lang="en-US" sz="3000" spc="-1" strike="noStrike">
                <a:solidFill>
                  <a:srgbClr val="000000"/>
                </a:solidFill>
                <a:latin typeface="SimSun"/>
                <a:ea typeface="SimSun"/>
              </a:rPr>
              <a:t>(Fox)+BlueSk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lnSpc>
                <a:spcPct val="100000"/>
              </a:lnSpc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SimSun"/>
                <a:ea typeface="SimSun"/>
              </a:rPr>
              <a:t>除以上三家公司外，其余主要发行商并无与特定的动画制片商结盟。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3" name="標題 2" descr=""/>
          <p:cNvPicPr/>
          <p:nvPr/>
        </p:nvPicPr>
        <p:blipFill>
          <a:blip r:embed="rId1"/>
          <a:stretch/>
        </p:blipFill>
        <p:spPr>
          <a:xfrm>
            <a:off x="219240" y="298440"/>
            <a:ext cx="93628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09480" y="1935000"/>
            <a:ext cx="90741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Sans Unicode"/>
                <a:ea typeface="SimSun"/>
              </a:rPr>
              <a:t>经营人才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Sans Unicode"/>
                <a:ea typeface="SimSun"/>
              </a:rPr>
              <a:t>科技人才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Sans Unicode"/>
                <a:ea typeface="SimSun"/>
              </a:rPr>
              <a:t>创意人才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Lucida Sans Unicode"/>
                <a:ea typeface="SimSun"/>
              </a:rPr>
              <a:t>制作人才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5" name="標題 2" descr=""/>
          <p:cNvPicPr/>
          <p:nvPr/>
        </p:nvPicPr>
        <p:blipFill>
          <a:blip r:embed="rId1"/>
          <a:stretch/>
        </p:blipFill>
        <p:spPr>
          <a:xfrm>
            <a:off x="219240" y="298440"/>
            <a:ext cx="93628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tsuya Ogawa</dc:creator>
  <dc:description/>
  <dc:language>en-US</dc:language>
  <cp:lastModifiedBy>雨林木风</cp:lastModifiedBy>
  <dcterms:modified xsi:type="dcterms:W3CDTF">2009-05-11T13:42:36Z</dcterms:modified>
  <cp:revision>229</cp:revision>
  <dc:subject/>
  <dc:title>投影片 1</dc:title>
</cp:coreProperties>
</file>