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794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468360" y="95220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02640" y="6443640"/>
            <a:ext cx="152280" cy="152280"/>
          </a:xfrm>
          <a:prstGeom prst="ellips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23320" y="6443640"/>
            <a:ext cx="152280" cy="152280"/>
          </a:xfrm>
          <a:prstGeom prst="ellipse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51920" y="6443640"/>
            <a:ext cx="152280" cy="152280"/>
          </a:xfrm>
          <a:prstGeom prst="ellips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80520" y="6443640"/>
            <a:ext cx="152280" cy="152280"/>
          </a:xfrm>
          <a:prstGeom prst="ellips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59400" y="637848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99"/>
                </a:solidFill>
                <a:latin typeface="Arial"/>
                <a:ea typeface="宋体"/>
              </a:rPr>
              <a:t>中国出版蓝桥创意产业园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050240" y="700200"/>
            <a:ext cx="177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www.bluebridgepark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0" y="1841400"/>
            <a:ext cx="6943680" cy="443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8720"/>
            <a:ext cx="8947080" cy="954000"/>
          </a:xfrm>
          <a:prstGeom prst="rect">
            <a:avLst/>
          </a:prstGeom>
          <a:gradFill rotWithShape="0">
            <a:gsLst>
              <a:gs pos="0">
                <a:srgbClr val="5c414f"/>
              </a:gs>
              <a:gs pos="100000">
                <a:srgbClr val="86727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02640" y="6443640"/>
            <a:ext cx="152280" cy="152280"/>
          </a:xfrm>
          <a:prstGeom prst="ellips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23320" y="6443640"/>
            <a:ext cx="152280" cy="152280"/>
          </a:xfrm>
          <a:prstGeom prst="ellipse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51920" y="6443640"/>
            <a:ext cx="152280" cy="152280"/>
          </a:xfrm>
          <a:prstGeom prst="ellips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480520" y="6443640"/>
            <a:ext cx="152280" cy="152280"/>
          </a:xfrm>
          <a:prstGeom prst="ellips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59400" y="637848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cc"/>
                </a:solidFill>
                <a:latin typeface="Arial"/>
                <a:ea typeface="宋体"/>
              </a:rPr>
              <a:t>中国出版蓝桥创意产业园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04040" y="5227560"/>
            <a:ext cx="917280" cy="98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53200" y="5305320"/>
            <a:ext cx="1431720" cy="94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499520" y="5253120"/>
            <a:ext cx="1190520" cy="974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84920" y="2690640"/>
            <a:ext cx="357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ad.msn.com/ADSAdClient31.dll?GetAd=&amp;PG=IMSCHI&amp;AP=1007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21440" y="22971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www.bluebridgepark.com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32000" y="1292400"/>
            <a:ext cx="6091200" cy="509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中国出版蓝桥创意产业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平面布局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328760"/>
            <a:ext cx="415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园区占地</a:t>
            </a:r>
            <a:r>
              <a:rPr b="1" lang="en-US" sz="2800" spc="-1" strike="noStrike">
                <a:solidFill>
                  <a:srgbClr val="5c414f"/>
                </a:solidFill>
                <a:latin typeface="Arial"/>
                <a:ea typeface="宋体"/>
              </a:rPr>
              <a:t>22</a:t>
            </a: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亩，</a:t>
            </a:r>
            <a:r>
              <a:rPr b="1" lang="en-US" sz="2800" spc="-1" strike="noStrike">
                <a:solidFill>
                  <a:srgbClr val="5c414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路交叉呈风帆状。</a:t>
            </a: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主体建筑四幢。</a:t>
            </a: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414f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楼已竣工并交付使用</a:t>
            </a: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414f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楼已确定投资改造方</a:t>
            </a: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414f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5c414f"/>
                </a:solidFill>
                <a:latin typeface="Arial"/>
                <a:ea typeface="宋体"/>
              </a:rPr>
              <a:t>楼的运作模式正在论证中。</a:t>
            </a: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87800" y="1046160"/>
            <a:ext cx="33721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景观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7331040" cy="3708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361120" y="4700520"/>
            <a:ext cx="3019320" cy="1530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8120" y="4873680"/>
            <a:ext cx="49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，以内容产业、创意产业为依托的办公楼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46960" y="5762520"/>
            <a:ext cx="9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﹥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原貌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景观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7360" y="982800"/>
            <a:ext cx="5808600" cy="4614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507000" y="3683160"/>
            <a:ext cx="2152800" cy="1895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4120" y="5692680"/>
            <a:ext cx="39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，以新媒体行业为依托的办公楼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3400" y="570708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原貌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景观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1139760"/>
            <a:ext cx="6586560" cy="4737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319800" y="961920"/>
            <a:ext cx="2192400" cy="2417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102360" y="3270240"/>
            <a:ext cx="2744640" cy="2497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26640" y="5989680"/>
            <a:ext cx="20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改建效果图及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原貌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景观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941400"/>
            <a:ext cx="6299280" cy="4937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372360" y="4056120"/>
            <a:ext cx="2771640" cy="1784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00080" y="595008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，沿纪念路黄金地块。商务配套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99800" y="588168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楼原貌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景观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17600" y="969840"/>
            <a:ext cx="8188200" cy="48056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62840" y="5827680"/>
            <a:ext cx="17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园区主入口景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景观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8200" y="1209600"/>
            <a:ext cx="82296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周边环境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568520"/>
            <a:ext cx="9144000" cy="3830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979880" y="557064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沿广济路轻轨铁路博物馆效果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218bc"/>
                </a:solidFill>
                <a:latin typeface="Arial"/>
                <a:ea typeface="宋体"/>
              </a:rPr>
              <a:t>近 期 规 划</a:t>
            </a:r>
            <a:endParaRPr b="1" lang="en-US" sz="60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1765440" y="2786040"/>
            <a:ext cx="2294640" cy="3431520"/>
            <a:chOff x="1765440" y="2786040"/>
            <a:chExt cx="2294640" cy="3431520"/>
          </a:xfrm>
        </p:grpSpPr>
        <p:grpSp>
          <p:nvGrpSpPr>
            <p:cNvPr id="295" name=""/>
            <p:cNvGrpSpPr/>
            <p:nvPr/>
          </p:nvGrpSpPr>
          <p:grpSpPr>
            <a:xfrm>
              <a:off x="1765440" y="4852440"/>
              <a:ext cx="2294640" cy="1365120"/>
              <a:chOff x="1765440" y="4852440"/>
              <a:chExt cx="2294640" cy="1365120"/>
            </a:xfrm>
          </p:grpSpPr>
          <p:sp>
            <p:nvSpPr>
              <p:cNvPr id="296" name=""/>
              <p:cNvSpPr/>
              <p:nvPr/>
            </p:nvSpPr>
            <p:spPr>
              <a:xfrm>
                <a:off x="1765440" y="5886720"/>
                <a:ext cx="2290680" cy="32112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69400" y="48524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a1d24"/>
                  </a:gs>
                  <a:gs pos="50000">
                    <a:srgbClr val="5c414f">
                      <a:alpha val="50196"/>
                    </a:srgbClr>
                  </a:gs>
                  <a:gs pos="100000">
                    <a:srgbClr val="2a1d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765440" y="3821040"/>
              <a:ext cx="2294640" cy="1365120"/>
              <a:chOff x="1765440" y="3821040"/>
              <a:chExt cx="2294640" cy="1365120"/>
            </a:xfrm>
          </p:grpSpPr>
          <p:sp>
            <p:nvSpPr>
              <p:cNvPr id="299" name=""/>
              <p:cNvSpPr/>
              <p:nvPr/>
            </p:nvSpPr>
            <p:spPr>
              <a:xfrm>
                <a:off x="1765440" y="4855320"/>
                <a:ext cx="2290680" cy="32112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69400" y="38210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434617"/>
                  </a:gs>
                  <a:gs pos="50000">
                    <a:srgbClr val="939932">
                      <a:alpha val="50196"/>
                    </a:srgbClr>
                  </a:gs>
                  <a:gs pos="100000">
                    <a:srgbClr val="43461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765440" y="2786040"/>
              <a:ext cx="2294640" cy="1365120"/>
              <a:chOff x="1765440" y="2786040"/>
              <a:chExt cx="2294640" cy="1365120"/>
            </a:xfrm>
          </p:grpSpPr>
          <p:sp>
            <p:nvSpPr>
              <p:cNvPr id="302" name=""/>
              <p:cNvSpPr/>
              <p:nvPr/>
            </p:nvSpPr>
            <p:spPr>
              <a:xfrm>
                <a:off x="1765440" y="3820320"/>
                <a:ext cx="2290680" cy="32112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3e9d4"/>
                  </a:gs>
                  <a:gs pos="100000">
                    <a:srgbClr val="c1cf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69400" y="27860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6c4909"/>
                  </a:gs>
                  <a:gs pos="50000">
                    <a:srgbClr val="ec9f14">
                      <a:alpha val="50196"/>
                    </a:srgbClr>
                  </a:gs>
                  <a:gs pos="100000">
                    <a:srgbClr val="6c490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4319640" y="3048120"/>
            <a:ext cx="335448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目标定位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47880" y="337968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传统媒体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79840" y="3165480"/>
            <a:ext cx="2905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图书、报刊出版行业、影视制作行业，与之相连的艺术设计、市场营销等行业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47880" y="441972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数字媒体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47880" y="548640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相关产业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34040" y="414828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29160" y="4222800"/>
            <a:ext cx="3009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通过数字技术把传媒内容数字化后，经由网络、电信平台加以发布的新媒体产业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34040" y="521496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5600" y="5361120"/>
            <a:ext cx="28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展览展示、会议培训等创意创新业务。园区配套服务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60680" y="1733400"/>
            <a:ext cx="59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容产业  新媒体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3500000">
            <a:off x="4181040" y="3394800"/>
            <a:ext cx="298440" cy="298440"/>
          </a:xfrm>
          <a:prstGeom prst="rtTriangl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3500000">
            <a:off x="4181040" y="4475880"/>
            <a:ext cx="298440" cy="298440"/>
          </a:xfrm>
          <a:prstGeom prst="rtTriangl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3500000">
            <a:off x="4181040" y="5542920"/>
            <a:ext cx="298440" cy="298440"/>
          </a:xfrm>
          <a:prstGeom prst="rtTriangl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17640" y="482904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797e29"/>
              </a:gs>
              <a:gs pos="50000">
                <a:srgbClr val="939932"/>
              </a:gs>
              <a:gs pos="100000">
                <a:srgbClr val="797e29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16000" y="482904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787c28"/>
              </a:gs>
              <a:gs pos="50000">
                <a:srgbClr val="939932"/>
              </a:gs>
              <a:gs pos="100000">
                <a:srgbClr val="787c28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17640" y="387036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813155"/>
              </a:gs>
              <a:gs pos="50000">
                <a:srgbClr val="b24476"/>
              </a:gs>
              <a:gs pos="100000">
                <a:srgbClr val="813155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6000" y="387036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913760"/>
              </a:gs>
              <a:gs pos="50000">
                <a:srgbClr val="b24476"/>
              </a:gs>
              <a:gs pos="100000">
                <a:srgbClr val="91376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1200" y="392904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近期规划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7640" y="290520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5c414f"/>
              </a:gs>
              <a:gs pos="50000">
                <a:srgbClr val="86727c"/>
              </a:gs>
              <a:gs pos="100000">
                <a:srgbClr val="5c414f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6000" y="290520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5c414f"/>
              </a:gs>
              <a:gs pos="50000">
                <a:srgbClr val="86727c"/>
              </a:gs>
              <a:gs pos="100000">
                <a:srgbClr val="5c414f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7640" y="197496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c08110"/>
              </a:gs>
              <a:gs pos="50000">
                <a:srgbClr val="ec9f14"/>
              </a:gs>
              <a:gs pos="100000">
                <a:srgbClr val="c0811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16000" y="197496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c08110"/>
              </a:gs>
              <a:gs pos="50000">
                <a:srgbClr val="ec9f14"/>
              </a:gs>
              <a:gs pos="100000">
                <a:srgbClr val="c0811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1200" y="203976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背景简介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1200" y="296388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园区概貌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1200" y="489744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发展优势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9560" y="192708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49560" y="286704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9560" y="381960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9840" y="4781520"/>
            <a:ext cx="3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目  录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969840"/>
            <a:ext cx="6043680" cy="588816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14560" y="1538280"/>
            <a:ext cx="342900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6880" y="2997360"/>
            <a:ext cx="265284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40280" y="2997360"/>
            <a:ext cx="24735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7680" y="4743360"/>
            <a:ext cx="2657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86320" y="4781520"/>
            <a:ext cx="2224080" cy="606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73359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760" y="311004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国际图书会展平台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69040" y="1654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数字出版运营模式研究实验平台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75240" y="3094200"/>
            <a:ext cx="31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数字内容加工平台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35840" y="48229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传统出版模式的创新平台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搭建平台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460680" y="3646440"/>
            <a:ext cx="2552760" cy="639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8600" y="3270240"/>
            <a:ext cx="1735200" cy="520560"/>
          </a:xfrm>
          <a:prstGeom prst="rect">
            <a:avLst/>
          </a:prstGeom>
          <a:solidFill>
            <a:srgbClr val="e3f30d"/>
          </a:solidFill>
          <a:ln w="9360">
            <a:solidFill>
              <a:srgbClr val="b244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五大平台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78560" y="494676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论坛及培训平台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03320" y="2109960"/>
            <a:ext cx="8510400" cy="3892320"/>
          </a:xfrm>
          <a:custGeom>
            <a:avLst/>
            <a:gdLst/>
            <a:ahLst/>
            <a:rect l="l" t="t" r="r" b="b"/>
            <a:pathLst>
              <a:path w="5361" h="2452">
                <a:moveTo>
                  <a:pt x="938" y="1988"/>
                </a:moveTo>
                <a:lnTo>
                  <a:pt x="9" y="2434"/>
                </a:lnTo>
                <a:lnTo>
                  <a:pt x="1031" y="2220"/>
                </a:lnTo>
                <a:lnTo>
                  <a:pt x="0" y="2452"/>
                </a:lnTo>
                <a:lnTo>
                  <a:pt x="4794" y="1319"/>
                </a:lnTo>
                <a:lnTo>
                  <a:pt x="5063" y="1858"/>
                </a:lnTo>
                <a:lnTo>
                  <a:pt x="4785" y="1300"/>
                </a:lnTo>
                <a:lnTo>
                  <a:pt x="5091" y="1858"/>
                </a:lnTo>
                <a:lnTo>
                  <a:pt x="5221" y="1114"/>
                </a:lnTo>
                <a:lnTo>
                  <a:pt x="5091" y="1904"/>
                </a:lnTo>
                <a:lnTo>
                  <a:pt x="5361" y="585"/>
                </a:lnTo>
                <a:lnTo>
                  <a:pt x="4088" y="0"/>
                </a:lnTo>
                <a:lnTo>
                  <a:pt x="4366" y="576"/>
                </a:lnTo>
                <a:lnTo>
                  <a:pt x="938" y="1988"/>
                </a:lnTo>
                <a:close/>
              </a:path>
            </a:pathLst>
          </a:custGeom>
          <a:gradFill rotWithShape="0">
            <a:gsLst>
              <a:gs pos="0">
                <a:srgbClr val="461b2f"/>
              </a:gs>
              <a:gs pos="50000">
                <a:srgbClr val="b24476"/>
              </a:gs>
              <a:gs pos="100000">
                <a:srgbClr val="461b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发展规划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86280" y="1614600"/>
            <a:ext cx="630360" cy="192708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8920" y="2451240"/>
            <a:ext cx="49536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24160" y="349092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58920" y="4370400"/>
            <a:ext cx="295200" cy="7668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03320" y="5159520"/>
            <a:ext cx="252360" cy="369720"/>
          </a:xfrm>
          <a:prstGeom prst="wedgeRectCallout">
            <a:avLst>
              <a:gd name="adj1" fmla="val -80189"/>
              <a:gd name="adj2" fmla="val 74462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89520" y="3340080"/>
            <a:ext cx="630360" cy="76032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36760" y="4559400"/>
            <a:ext cx="400320" cy="34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57480" y="509760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343" name=""/>
          <p:cNvCxnSpPr/>
          <p:nvPr/>
        </p:nvCxnSpPr>
        <p:spPr>
          <a:xfrm flipV="1" rot="16200000">
            <a:off x="14224680" y="1306800"/>
            <a:ext cx="965880" cy="5450040"/>
          </a:xfrm>
          <a:prstGeom prst="bentConnector5">
            <a:avLst>
              <a:gd name="adj1" fmla="val -23489"/>
              <a:gd name="adj2" fmla="val 40342"/>
              <a:gd name="adj3" fmla="val 12367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93640" y="58863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008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7480" y="3962520"/>
            <a:ext cx="49536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9320" y="58863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009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49640" y="58863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010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86360" y="58672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012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78320" y="587844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011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01880" y="54957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351" name=""/>
          <p:cNvCxnSpPr>
            <a:endCxn id="350" idx="3"/>
          </p:cNvCxnSpPr>
          <p:nvPr/>
        </p:nvCxnSpPr>
        <p:spPr>
          <a:xfrm flipH="1" rot="16200000">
            <a:off x="315000" y="4838760"/>
            <a:ext cx="961200" cy="665640"/>
          </a:xfrm>
          <a:prstGeom prst="bentConnector3">
            <a:avLst>
              <a:gd name="adj1" fmla="val 12379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352" name=""/>
          <p:cNvCxnSpPr/>
          <p:nvPr/>
        </p:nvCxnSpPr>
        <p:spPr>
          <a:xfrm flipH="1" rot="16200000">
            <a:off x="1446120" y="4524120"/>
            <a:ext cx="960840" cy="665640"/>
          </a:xfrm>
          <a:prstGeom prst="bentConnector3">
            <a:avLst>
              <a:gd name="adj1" fmla="val 11600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353" name=""/>
          <p:cNvCxnSpPr/>
          <p:nvPr/>
        </p:nvCxnSpPr>
        <p:spPr>
          <a:xfrm flipH="1" rot="16200000">
            <a:off x="2402640" y="3874680"/>
            <a:ext cx="1488240" cy="545400"/>
          </a:xfrm>
          <a:prstGeom prst="bentConnector3">
            <a:avLst>
              <a:gd name="adj1" fmla="val 11930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354" name=""/>
          <p:cNvCxnSpPr>
            <a:endCxn id="345" idx="3"/>
          </p:cNvCxnSpPr>
          <p:nvPr/>
        </p:nvCxnSpPr>
        <p:spPr>
          <a:xfrm flipH="1" rot="16200000">
            <a:off x="3291480" y="2985840"/>
            <a:ext cx="2153520" cy="753480"/>
          </a:xfrm>
          <a:prstGeom prst="bentConnector3">
            <a:avLst>
              <a:gd name="adj1" fmla="val 11061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355" name=""/>
          <p:cNvCxnSpPr/>
          <p:nvPr/>
        </p:nvCxnSpPr>
        <p:spPr>
          <a:xfrm flipH="1" rot="16200000">
            <a:off x="4574160" y="2522160"/>
            <a:ext cx="2361240" cy="754920"/>
          </a:xfrm>
          <a:prstGeom prst="bentConnector3">
            <a:avLst>
              <a:gd name="adj1" fmla="val 11122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0" y="441648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园区一期项目建设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6840" y="372888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目标企业招商引资工作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57480" y="2738520"/>
            <a:ext cx="264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园区二期项目建设完工，产业集聚规模初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29200" y="1192320"/>
            <a:ext cx="27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探索出相对成熟的园区发展模式，拓展业务规模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93760" y="1892160"/>
            <a:ext cx="30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资源整合，产业集聚效应突显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Arial"/>
                <a:ea typeface="宋体"/>
              </a:rPr>
              <a:t>                      </a:t>
            </a:r>
            <a:r>
              <a:rPr b="1" lang="zh-CN" sz="6000" spc="-1" strike="noStrike">
                <a:solidFill>
                  <a:srgbClr val="a3af09"/>
                </a:solidFill>
                <a:latin typeface="Arial"/>
                <a:ea typeface="宋体"/>
              </a:rPr>
              <a:t>发 展 优 势</a:t>
            </a:r>
            <a:endParaRPr b="1" lang="en-US" sz="60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966960"/>
            <a:ext cx="9144000" cy="58910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81200" y="3983040"/>
            <a:ext cx="7551360" cy="1427040"/>
            <a:chOff x="781200" y="3983040"/>
            <a:chExt cx="7551360" cy="1427040"/>
          </a:xfrm>
        </p:grpSpPr>
        <p:sp>
          <p:nvSpPr>
            <p:cNvPr id="364" name=""/>
            <p:cNvSpPr/>
            <p:nvPr/>
          </p:nvSpPr>
          <p:spPr>
            <a:xfrm>
              <a:off x="919440" y="4046040"/>
              <a:ext cx="2221200" cy="130464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9240" y="4170960"/>
              <a:ext cx="59400" cy="187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7800" y="4253400"/>
              <a:ext cx="68040" cy="212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480" bIns="-24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58320" y="4291200"/>
              <a:ext cx="171720" cy="496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27440" y="4549680"/>
              <a:ext cx="276840" cy="5652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800" bIns="10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5320" y="4592880"/>
              <a:ext cx="173520" cy="27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39280" y="4610160"/>
              <a:ext cx="6660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7560" y="4612320"/>
              <a:ext cx="20880" cy="169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0" bIns="-28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16800" y="4042800"/>
              <a:ext cx="315360" cy="59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56840" y="4015080"/>
              <a:ext cx="255960" cy="403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16480" y="4062240"/>
              <a:ext cx="408600" cy="1278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2880" y="4007160"/>
              <a:ext cx="77040" cy="248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880" bIns="-20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65640" y="4054320"/>
              <a:ext cx="113400" cy="2808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84800" y="4059720"/>
              <a:ext cx="94320" cy="165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160" bIns="-29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34040" y="4035240"/>
              <a:ext cx="111960" cy="2268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86880" y="4014000"/>
              <a:ext cx="77040" cy="158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86320" y="4015800"/>
              <a:ext cx="199800" cy="518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120" bIns="6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1200" y="4181040"/>
              <a:ext cx="43560" cy="97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07800" y="4524840"/>
              <a:ext cx="28080" cy="7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13200" y="4541760"/>
              <a:ext cx="28080" cy="7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71040" y="4630680"/>
              <a:ext cx="25920" cy="7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8480" y="4304520"/>
              <a:ext cx="6624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3160" y="4166640"/>
              <a:ext cx="6624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26560" y="4046040"/>
              <a:ext cx="6804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7080" y="4118760"/>
              <a:ext cx="66600" cy="118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65520" y="3983040"/>
              <a:ext cx="1219680" cy="23292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38840" y="4106880"/>
              <a:ext cx="68040" cy="158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4151160"/>
              <a:ext cx="224280" cy="36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1680" y="4041360"/>
              <a:ext cx="68040" cy="158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83640" y="4020120"/>
              <a:ext cx="271440" cy="42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" bIns="-36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53200" y="4042080"/>
              <a:ext cx="84240" cy="140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41640" y="4225320"/>
              <a:ext cx="190800" cy="885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840" bIns="42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46960" y="4257720"/>
              <a:ext cx="120600" cy="453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02200" y="5027040"/>
              <a:ext cx="830880" cy="33300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60320" y="4851360"/>
              <a:ext cx="558720" cy="1411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75800" y="4852800"/>
              <a:ext cx="545040" cy="1418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79360" y="5371200"/>
              <a:ext cx="78480" cy="388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840" bIns="-6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7320" y="5310360"/>
              <a:ext cx="287640" cy="572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15400" y="5276880"/>
              <a:ext cx="182160" cy="619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12240" y="5249160"/>
              <a:ext cx="64440" cy="172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1840" y="4921920"/>
              <a:ext cx="215280" cy="1350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4240" y="4712040"/>
              <a:ext cx="85680" cy="410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07800" y="4756320"/>
              <a:ext cx="194040" cy="1231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42920" y="4718160"/>
              <a:ext cx="126360" cy="921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29320" y="4791960"/>
              <a:ext cx="69840" cy="8820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07800" y="4884480"/>
              <a:ext cx="113760" cy="36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90320" y="4820400"/>
              <a:ext cx="145440" cy="784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41000" y="4538880"/>
              <a:ext cx="38520" cy="4752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65840" y="4619160"/>
              <a:ext cx="106920" cy="79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0720" y="4723920"/>
              <a:ext cx="112320" cy="529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74280" y="4818960"/>
              <a:ext cx="50400" cy="32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200" y="4874400"/>
              <a:ext cx="3132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360" y="4867560"/>
              <a:ext cx="78840" cy="24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880" bIns="-20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14320" y="4914720"/>
              <a:ext cx="42120" cy="219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82680" y="4886280"/>
              <a:ext cx="80640" cy="313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86440" y="4925880"/>
              <a:ext cx="80640" cy="334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00760" y="4938840"/>
              <a:ext cx="55800" cy="18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63680" y="4919400"/>
              <a:ext cx="42120" cy="208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23440" y="4926600"/>
              <a:ext cx="59400" cy="158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37400" y="4703400"/>
              <a:ext cx="47160" cy="367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27040" y="4697280"/>
              <a:ext cx="33120" cy="370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65560" y="4685760"/>
              <a:ext cx="17280" cy="165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160" bIns="-291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82840" y="4693680"/>
              <a:ext cx="36720" cy="32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11600" y="4740120"/>
              <a:ext cx="20880" cy="18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3960" y="4724640"/>
              <a:ext cx="1728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86760" y="4712760"/>
              <a:ext cx="20880" cy="90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65880" y="4685760"/>
              <a:ext cx="19440" cy="12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69480" y="4702680"/>
              <a:ext cx="28080" cy="86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35040" y="5122080"/>
              <a:ext cx="78480" cy="39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39680" y="5088960"/>
              <a:ext cx="92880" cy="30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5072040"/>
              <a:ext cx="29520" cy="15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45560" y="5057280"/>
              <a:ext cx="3492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77360" y="4926600"/>
              <a:ext cx="42120" cy="219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36760" y="4955760"/>
              <a:ext cx="45000" cy="21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84280" y="4998240"/>
              <a:ext cx="486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43680" y="4991400"/>
              <a:ext cx="48600" cy="172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6400" y="4966920"/>
              <a:ext cx="45000" cy="13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400" bIns="-32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80680" y="4950360"/>
              <a:ext cx="45360" cy="2340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24520" y="4939560"/>
              <a:ext cx="42120" cy="172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94360" y="4975200"/>
              <a:ext cx="42120" cy="172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72320" y="4050360"/>
              <a:ext cx="246600" cy="72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9560" y="4120200"/>
              <a:ext cx="70200" cy="7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78840" y="4015080"/>
              <a:ext cx="73440" cy="187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31400" y="4024080"/>
              <a:ext cx="87840" cy="133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400" bIns="-324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26440" y="4026240"/>
              <a:ext cx="87120" cy="2124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480" bIns="-24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38080" y="4044240"/>
              <a:ext cx="154080" cy="205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95760" y="4043520"/>
              <a:ext cx="80640" cy="158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59040" y="4062960"/>
              <a:ext cx="6444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0760" y="4213800"/>
              <a:ext cx="132840" cy="766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7680" y="4293360"/>
              <a:ext cx="96480" cy="5220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44320" y="4347000"/>
              <a:ext cx="191160" cy="1270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84920" y="4007880"/>
              <a:ext cx="90720" cy="198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7000" y="4014000"/>
              <a:ext cx="33120" cy="147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0960" bIns="-30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39120" y="4013280"/>
              <a:ext cx="64440" cy="18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6400" y="4007160"/>
              <a:ext cx="34920" cy="108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920" bIns="-349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14360" y="4019040"/>
              <a:ext cx="25920" cy="86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080" bIns="-3708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12720" y="4030200"/>
              <a:ext cx="31680" cy="21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63280" y="5007600"/>
              <a:ext cx="54360" cy="118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33120" y="5002920"/>
              <a:ext cx="176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15760" y="4899240"/>
              <a:ext cx="158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21240" y="484992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9120" y="484920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59680" y="4864320"/>
              <a:ext cx="1728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15760" y="4887000"/>
              <a:ext cx="158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49240" y="4878360"/>
              <a:ext cx="1728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4040" y="4213080"/>
              <a:ext cx="17640" cy="100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57120" y="4190400"/>
              <a:ext cx="17640" cy="9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40240" y="4044240"/>
              <a:ext cx="3610800" cy="1106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 flipV="1">
            <a:off x="1887120" y="4344480"/>
            <a:ext cx="2228760" cy="145116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587840" y="4168440"/>
            <a:ext cx="0" cy="146844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935600" y="4302000"/>
            <a:ext cx="2179440" cy="154944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514600" y="535140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/>
            <a:ahLst/>
            <a:rect l="l" t="t" r="r" b="b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ec9f14">
              <a:alpha val="97000"/>
            </a:srgbClr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ec9f14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/>
            <a:ahLst/>
            <a:rect l="l" t="t" r="r" b="b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ec9f14"/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746440" y="4813200"/>
            <a:ext cx="3722400" cy="1207800"/>
            <a:chOff x="2746440" y="4813200"/>
            <a:chExt cx="3722400" cy="1207800"/>
          </a:xfrm>
        </p:grpSpPr>
        <p:sp>
          <p:nvSpPr>
            <p:cNvPr id="481" name=""/>
            <p:cNvSpPr/>
            <p:nvPr/>
          </p:nvSpPr>
          <p:spPr>
            <a:xfrm>
              <a:off x="2748240" y="4905360"/>
              <a:ext cx="3720240" cy="111564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c0c0c0"/>
                </a:gs>
                <a:gs pos="100000">
                  <a:srgbClr val="575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46440" y="481320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798640" y="510228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发展优势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发展优势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7520" y="130644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5d498"/>
              </a:gs>
              <a:gs pos="50000">
                <a:srgbClr val="ec9f14"/>
              </a:gs>
              <a:gs pos="100000">
                <a:srgbClr val="f5d49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5d293"/>
              </a:gs>
              <a:gs pos="50000">
                <a:srgbClr val="ec9f14"/>
              </a:gs>
              <a:gs pos="100000">
                <a:srgbClr val="f5d29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4640" y="2308320"/>
            <a:ext cx="226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地域优势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73920" y="220356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宋体"/>
              </a:rPr>
              <a:t>管理优势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70200" y="214956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资源优势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地域优势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8800" y="35193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5c414f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63880" y="1379520"/>
            <a:ext cx="3390840" cy="339084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2954160" y="1373040"/>
            <a:ext cx="3407040" cy="3400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950920" y="1386000"/>
            <a:ext cx="3413520" cy="34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4357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43579"/>
              </a:path>
            </a:pathLst>
          </a:custGeom>
          <a:solidFill>
            <a:srgbClr val="b2447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2975040" y="1382400"/>
            <a:ext cx="3367080" cy="34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95" y="2"/>
                </a:moveTo>
                <a:arcTo wR="10800" hR="10800" stAng="-5465392" swAng="5476597"/>
                <a:lnTo>
                  <a:pt x="10800" y="10800"/>
                </a:lnTo>
                <a:close/>
              </a:path>
              <a:path fill="none" w="21600" h="21600">
                <a:moveTo>
                  <a:pt x="10595" y="2"/>
                </a:moveTo>
                <a:arcTo wR="10800" hR="10800" stAng="-5465392" swAng="5476597"/>
              </a:path>
            </a:pathLst>
          </a:custGeom>
          <a:solidFill>
            <a:srgbClr val="9399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 flipV="1" rot="5400000">
            <a:off x="2951280" y="1388880"/>
            <a:ext cx="3413160" cy="338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3" y="2"/>
                </a:moveTo>
                <a:arcTo wR="10800" hR="10800" stAng="-5332190" swAng="5362650"/>
                <a:lnTo>
                  <a:pt x="10800" y="10800"/>
                </a:lnTo>
                <a:close/>
              </a:path>
              <a:path fill="none" w="21600" h="21600">
                <a:moveTo>
                  <a:pt x="11013" y="2"/>
                </a:moveTo>
                <a:arcTo wR="10800" hR="10800" stAng="-5332190" swAng="5362650"/>
              </a:path>
            </a:pathLst>
          </a:custGeom>
          <a:solidFill>
            <a:srgbClr val="5c41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419000">
            <a:off x="2995200" y="1323360"/>
            <a:ext cx="3352680" cy="33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0" y="53"/>
                </a:moveTo>
                <a:arcTo wR="10800" hR="10800" stAng="-5058775" swAng="5513674"/>
                <a:lnTo>
                  <a:pt x="10800" y="10800"/>
                </a:lnTo>
                <a:close/>
              </a:path>
              <a:path fill="none" w="21600" h="21600">
                <a:moveTo>
                  <a:pt x="11870" y="53"/>
                </a:moveTo>
                <a:arcTo wR="10800" hR="10800" stAng="-5058775" swAng="5513674"/>
              </a:path>
            </a:pathLst>
          </a:custGeom>
          <a:solidFill>
            <a:srgbClr val="ec9f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212000" y="1292040"/>
            <a:ext cx="2175480" cy="1801080"/>
            <a:chOff x="4212000" y="1292040"/>
            <a:chExt cx="2175480" cy="1801080"/>
          </a:xfrm>
        </p:grpSpPr>
        <p:grpSp>
          <p:nvGrpSpPr>
            <p:cNvPr id="499" name=""/>
            <p:cNvGrpSpPr/>
            <p:nvPr/>
          </p:nvGrpSpPr>
          <p:grpSpPr>
            <a:xfrm>
              <a:off x="4686480" y="1292040"/>
              <a:ext cx="1701000" cy="1801080"/>
              <a:chOff x="4686480" y="1292040"/>
              <a:chExt cx="1701000" cy="1801080"/>
            </a:xfrm>
          </p:grpSpPr>
          <p:sp>
            <p:nvSpPr>
              <p:cNvPr id="500" name=""/>
              <p:cNvSpPr/>
              <p:nvPr/>
            </p:nvSpPr>
            <p:spPr>
              <a:xfrm flipV="1" rot="8983800">
                <a:off x="5658480" y="1522800"/>
                <a:ext cx="352440" cy="158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 rot="8167800">
                <a:off x="5516640" y="1299960"/>
                <a:ext cx="35244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 rot="7872600">
                <a:off x="5409000" y="1193400"/>
                <a:ext cx="35244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 rot="7340400">
                <a:off x="5275440" y="1071720"/>
                <a:ext cx="352440" cy="158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212000" y="1301040"/>
              <a:ext cx="2079360" cy="1252440"/>
              <a:chOff x="4212000" y="1301040"/>
              <a:chExt cx="2079360" cy="1252440"/>
            </a:xfrm>
          </p:grpSpPr>
          <p:sp>
            <p:nvSpPr>
              <p:cNvPr id="505" name=""/>
              <p:cNvSpPr/>
              <p:nvPr/>
            </p:nvSpPr>
            <p:spPr>
              <a:xfrm flipV="1" rot="7630800">
                <a:off x="5374440" y="1137600"/>
                <a:ext cx="35424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 rot="6814800">
                <a:off x="5158440" y="987120"/>
                <a:ext cx="3542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 rot="6519600">
                <a:off x="5016960" y="930240"/>
                <a:ext cx="3542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 rot="5987400">
                <a:off x="4847040" y="868320"/>
                <a:ext cx="3542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2891160" y="2933640"/>
            <a:ext cx="2067480" cy="1932840"/>
            <a:chOff x="2891160" y="2933640"/>
            <a:chExt cx="2067480" cy="1932840"/>
          </a:xfrm>
        </p:grpSpPr>
        <p:grpSp>
          <p:nvGrpSpPr>
            <p:cNvPr id="510" name=""/>
            <p:cNvGrpSpPr/>
            <p:nvPr/>
          </p:nvGrpSpPr>
          <p:grpSpPr>
            <a:xfrm>
              <a:off x="2891160" y="2933640"/>
              <a:ext cx="1584720" cy="1908000"/>
              <a:chOff x="2891160" y="2933640"/>
              <a:chExt cx="1584720" cy="1908000"/>
            </a:xfrm>
          </p:grpSpPr>
          <p:sp>
            <p:nvSpPr>
              <p:cNvPr id="511" name=""/>
              <p:cNvSpPr/>
              <p:nvPr/>
            </p:nvSpPr>
            <p:spPr>
              <a:xfrm flipV="1" rot="20112000">
                <a:off x="3225240" y="2933640"/>
                <a:ext cx="3520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296600">
                <a:off x="3345840" y="3169440"/>
                <a:ext cx="3520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000800">
                <a:off x="3443040" y="3286080"/>
                <a:ext cx="3520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 rot="18468600">
                <a:off x="3564360" y="3421440"/>
                <a:ext cx="35244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942640" y="3471840"/>
              <a:ext cx="2016000" cy="1394640"/>
              <a:chOff x="2942640" y="3471840"/>
              <a:chExt cx="2016000" cy="1394640"/>
            </a:xfrm>
          </p:grpSpPr>
          <p:sp>
            <p:nvSpPr>
              <p:cNvPr id="516" name=""/>
              <p:cNvSpPr/>
              <p:nvPr/>
            </p:nvSpPr>
            <p:spPr>
              <a:xfrm flipV="1" rot="18758400">
                <a:off x="3469320" y="3345840"/>
                <a:ext cx="3538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 rot="17943000">
                <a:off x="3670560" y="3517200"/>
                <a:ext cx="35388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 rot="17647800">
                <a:off x="3805560" y="3585960"/>
                <a:ext cx="35388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17115600">
                <a:off x="3969000" y="3664080"/>
                <a:ext cx="35388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4105440" y="2514600"/>
            <a:ext cx="1188360" cy="1190880"/>
            <a:chOff x="4105440" y="2514600"/>
            <a:chExt cx="1188360" cy="119088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4105440" y="2514600"/>
              <a:ext cx="1164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4120200" y="2522520"/>
              <a:ext cx="1149840" cy="1146960"/>
            </a:xfrm>
            <a:prstGeom prst="ellipse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481280" y="2964600"/>
              <a:ext cx="812520" cy="740880"/>
              <a:chOff x="4481280" y="2964600"/>
              <a:chExt cx="812520" cy="74088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4669200" y="2964600"/>
                <a:ext cx="624600" cy="733680"/>
                <a:chOff x="4669200" y="2964600"/>
                <a:chExt cx="624600" cy="733680"/>
              </a:xfrm>
            </p:grpSpPr>
            <p:sp>
              <p:nvSpPr>
                <p:cNvPr id="525" name=""/>
                <p:cNvSpPr/>
                <p:nvPr/>
              </p:nvSpPr>
              <p:spPr>
                <a:xfrm flipH="1" flipV="1" rot="1528800">
                  <a:off x="5017320" y="2966760"/>
                  <a:ext cx="148680" cy="60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flipV="1" rot="2344200">
                  <a:off x="4969080" y="3056400"/>
                  <a:ext cx="148680" cy="609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 flipV="1" rot="2640000">
                  <a:off x="4930560" y="3099960"/>
                  <a:ext cx="14868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flipV="1" rot="3172200">
                  <a:off x="4882320" y="3150720"/>
                  <a:ext cx="14868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481280" y="3166920"/>
                <a:ext cx="785520" cy="538560"/>
                <a:chOff x="4481280" y="3166920"/>
                <a:chExt cx="785520" cy="538560"/>
              </a:xfrm>
            </p:grpSpPr>
            <p:sp>
              <p:nvSpPr>
                <p:cNvPr id="530" name=""/>
                <p:cNvSpPr/>
                <p:nvPr/>
              </p:nvSpPr>
              <p:spPr>
                <a:xfrm flipH="1" flipV="1" rot="2881800">
                  <a:off x="4915440" y="3121200"/>
                  <a:ext cx="14976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flipV="1" rot="3697200">
                  <a:off x="4836960" y="3185280"/>
                  <a:ext cx="14976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 rot="3993000">
                  <a:off x="4784040" y="3210840"/>
                  <a:ext cx="150120" cy="60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 flipV="1" rot="4525200">
                  <a:off x="4719600" y="3238200"/>
                  <a:ext cx="14976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4" name=""/>
          <p:cNvSpPr/>
          <p:nvPr/>
        </p:nvSpPr>
        <p:spPr>
          <a:xfrm>
            <a:off x="390600" y="396864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157880" y="3567240"/>
            <a:ext cx="162720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b24476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264360" y="401652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5800" y="49593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939932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72280" y="540864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9960" y="497664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ec9f14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1760" y="542592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6560" y="356220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心城区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7440" y="50198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校云集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48600" y="3622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化底蕴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48600" y="5008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交通便利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125960" y="28717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虹口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2080" y="41655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经济发达，商业完善，服务便捷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3440" y="5608800"/>
            <a:ext cx="24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复旦、同济、财大、上外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49880" y="4206960"/>
            <a:ext cx="28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文化名人集聚地文化机构发源地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81640" y="5608800"/>
            <a:ext cx="24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一条轨道交通、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8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条公交线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18550800">
            <a:off x="3341880" y="201132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43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中心城区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1" name=""/>
          <p:cNvSpPr txBox="1"/>
          <p:nvPr/>
        </p:nvSpPr>
        <p:spPr>
          <a:xfrm rot="2434800">
            <a:off x="4222800" y="204444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43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文化底蕴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2" name=""/>
          <p:cNvSpPr txBox="1"/>
          <p:nvPr/>
        </p:nvSpPr>
        <p:spPr>
          <a:xfrm rot="8011800">
            <a:off x="6173280" y="2740680"/>
            <a:ext cx="1468440" cy="851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171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交通便利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3" name=""/>
          <p:cNvSpPr txBox="1"/>
          <p:nvPr/>
        </p:nvSpPr>
        <p:spPr>
          <a:xfrm rot="13376400">
            <a:off x="3826800" y="5051880"/>
            <a:ext cx="1844640" cy="10666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171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高校云集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资源优势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60440" y="297180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60440" y="376560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60440" y="456552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308400">
            <a:off x="6649920" y="2467080"/>
            <a:ext cx="1590840" cy="170172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64200" y="1965240"/>
            <a:ext cx="1319400" cy="1319400"/>
          </a:xfrm>
          <a:prstGeom prst="ellipse">
            <a:avLst/>
          </a:prstGeom>
          <a:gradFill rotWithShape="0">
            <a:gsLst>
              <a:gs pos="0">
                <a:srgbClr val="9b680d"/>
              </a:gs>
              <a:gs pos="50000">
                <a:srgbClr val="ec9f14"/>
              </a:gs>
              <a:gs pos="100000">
                <a:srgbClr val="9b680d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21680" y="3778200"/>
            <a:ext cx="1320840" cy="1320840"/>
          </a:xfrm>
          <a:prstGeom prst="ellipse">
            <a:avLst/>
          </a:prstGeom>
          <a:gradFill rotWithShape="0">
            <a:gsLst>
              <a:gs pos="0">
                <a:srgbClr val="343611"/>
              </a:gs>
              <a:gs pos="50000">
                <a:srgbClr val="939932"/>
              </a:gs>
              <a:gs pos="100000">
                <a:srgbClr val="343611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7527600">
            <a:off x="5975640" y="388800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5216000">
            <a:off x="5046480" y="265752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62600" y="378288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3c2a34"/>
              </a:gs>
              <a:gs pos="50000">
                <a:srgbClr val="5c414f"/>
              </a:gs>
              <a:gs pos="100000">
                <a:srgbClr val="3c2a34"/>
              </a:gs>
            </a:gsLst>
            <a:lin ang="135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985360" y="2621160"/>
            <a:ext cx="1117080" cy="724320"/>
            <a:chOff x="5985360" y="2621160"/>
            <a:chExt cx="1117080" cy="724320"/>
          </a:xfrm>
        </p:grpSpPr>
        <p:grpSp>
          <p:nvGrpSpPr>
            <p:cNvPr id="565" name=""/>
            <p:cNvGrpSpPr/>
            <p:nvPr/>
          </p:nvGrpSpPr>
          <p:grpSpPr>
            <a:xfrm>
              <a:off x="5985360" y="2621160"/>
              <a:ext cx="1117080" cy="724320"/>
              <a:chOff x="5985360" y="2621160"/>
              <a:chExt cx="1117080" cy="72432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6105600" y="2840400"/>
                <a:ext cx="996840" cy="495000"/>
                <a:chOff x="6105600" y="2840400"/>
                <a:chExt cx="996840" cy="495000"/>
              </a:xfrm>
            </p:grpSpPr>
            <p:sp>
              <p:nvSpPr>
                <p:cNvPr id="567" name=""/>
                <p:cNvSpPr/>
                <p:nvPr/>
              </p:nvSpPr>
              <p:spPr>
                <a:xfrm flipH="1" flipV="1" rot="5374200">
                  <a:off x="6645240" y="27756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 flipV="1" rot="6189600">
                  <a:off x="6524280" y="277128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flipV="1" rot="6485400">
                  <a:off x="6457320" y="275148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 flipV="1" rot="7017600">
                  <a:off x="6378840" y="272376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5985360" y="2621160"/>
                <a:ext cx="906120" cy="724320"/>
                <a:chOff x="5985360" y="2621160"/>
                <a:chExt cx="906120" cy="724320"/>
              </a:xfrm>
            </p:grpSpPr>
            <p:sp>
              <p:nvSpPr>
                <p:cNvPr id="572" name=""/>
                <p:cNvSpPr/>
                <p:nvPr/>
              </p:nvSpPr>
              <p:spPr>
                <a:xfrm flipH="1" flipV="1" rot="6727200">
                  <a:off x="6426000" y="27439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flipV="1" rot="7542600">
                  <a:off x="6316560" y="269460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flipV="1" rot="7838400">
                  <a:off x="6261840" y="264996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 rot="8370600">
                  <a:off x="6198480" y="25945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"/>
            <p:cNvGrpSpPr/>
            <p:nvPr/>
          </p:nvGrpSpPr>
          <p:grpSpPr>
            <a:xfrm>
              <a:off x="6073920" y="2694600"/>
              <a:ext cx="914760" cy="593280"/>
              <a:chOff x="6073920" y="2694600"/>
              <a:chExt cx="914760" cy="59328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6171480" y="2873880"/>
                <a:ext cx="817200" cy="405000"/>
                <a:chOff x="6171480" y="2873880"/>
                <a:chExt cx="817200" cy="405000"/>
              </a:xfrm>
            </p:grpSpPr>
            <p:sp>
              <p:nvSpPr>
                <p:cNvPr id="578" name=""/>
                <p:cNvSpPr/>
                <p:nvPr/>
              </p:nvSpPr>
              <p:spPr>
                <a:xfrm flipH="1" flipV="1" rot="5374200">
                  <a:off x="6614280" y="281988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flipV="1" rot="6189600">
                  <a:off x="6514560" y="281700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 flipV="1" rot="6485400">
                  <a:off x="6459840" y="280008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flipV="1" rot="7017600">
                  <a:off x="6395400" y="277776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6073920" y="2694600"/>
                <a:ext cx="742320" cy="593280"/>
                <a:chOff x="6073920" y="2694600"/>
                <a:chExt cx="742320" cy="593280"/>
              </a:xfrm>
            </p:grpSpPr>
            <p:sp>
              <p:nvSpPr>
                <p:cNvPr id="583" name=""/>
                <p:cNvSpPr/>
                <p:nvPr/>
              </p:nvSpPr>
              <p:spPr>
                <a:xfrm flipH="1" flipV="1" rot="6727200">
                  <a:off x="6435360" y="27946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 flipV="1" rot="7542600">
                  <a:off x="6345000" y="2754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 rot="7838400">
                  <a:off x="6300360" y="27172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flipV="1" rot="8370600">
                  <a:off x="6248160" y="26726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7" name=""/>
          <p:cNvGrpSpPr/>
          <p:nvPr/>
        </p:nvGrpSpPr>
        <p:grpSpPr>
          <a:xfrm>
            <a:off x="4890960" y="4441320"/>
            <a:ext cx="1117440" cy="725040"/>
            <a:chOff x="4890960" y="4441320"/>
            <a:chExt cx="1117440" cy="725040"/>
          </a:xfrm>
        </p:grpSpPr>
        <p:grpSp>
          <p:nvGrpSpPr>
            <p:cNvPr id="588" name=""/>
            <p:cNvGrpSpPr/>
            <p:nvPr/>
          </p:nvGrpSpPr>
          <p:grpSpPr>
            <a:xfrm>
              <a:off x="4890960" y="4441320"/>
              <a:ext cx="1117440" cy="725040"/>
              <a:chOff x="4890960" y="4441320"/>
              <a:chExt cx="1117440" cy="72504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5010120" y="4661280"/>
                <a:ext cx="998280" cy="495720"/>
                <a:chOff x="5010120" y="4661280"/>
                <a:chExt cx="998280" cy="495720"/>
              </a:xfrm>
            </p:grpSpPr>
            <p:sp>
              <p:nvSpPr>
                <p:cNvPr id="590" name=""/>
                <p:cNvSpPr/>
                <p:nvPr/>
              </p:nvSpPr>
              <p:spPr>
                <a:xfrm flipH="1" flipV="1" rot="5374200">
                  <a:off x="5550840" y="459612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 rot="6189600">
                  <a:off x="5429880" y="45921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6485400">
                  <a:off x="5362560" y="4572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 rot="7017600">
                  <a:off x="5283360" y="45446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890960" y="4441320"/>
                <a:ext cx="906480" cy="725040"/>
                <a:chOff x="4890960" y="4441320"/>
                <a:chExt cx="906480" cy="725040"/>
              </a:xfrm>
            </p:grpSpPr>
            <p:sp>
              <p:nvSpPr>
                <p:cNvPr id="595" name=""/>
                <p:cNvSpPr/>
                <p:nvPr/>
              </p:nvSpPr>
              <p:spPr>
                <a:xfrm flipH="1" flipV="1" rot="6727200">
                  <a:off x="5331600" y="456408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 rot="7542600">
                  <a:off x="5221800" y="451440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 rot="7838400">
                  <a:off x="5167800" y="446940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flipV="1" rot="8370600">
                  <a:off x="5104800" y="441468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4979160" y="4515480"/>
              <a:ext cx="914760" cy="593280"/>
              <a:chOff x="4979160" y="4515480"/>
              <a:chExt cx="914760" cy="59328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076000" y="4695120"/>
                <a:ext cx="817920" cy="405360"/>
                <a:chOff x="5076000" y="4695120"/>
                <a:chExt cx="817920" cy="40536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 rot="5374200">
                  <a:off x="5519160" y="4640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 rot="6189600">
                  <a:off x="5420520" y="46375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 rot="6485400">
                  <a:off x="5365440" y="46213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 rot="7017600">
                  <a:off x="5300280" y="459936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979160" y="4515480"/>
                <a:ext cx="741960" cy="593280"/>
                <a:chOff x="4979160" y="4515480"/>
                <a:chExt cx="741960" cy="593280"/>
              </a:xfrm>
            </p:grpSpPr>
            <p:sp>
              <p:nvSpPr>
                <p:cNvPr id="606" name=""/>
                <p:cNvSpPr/>
                <p:nvPr/>
              </p:nvSpPr>
              <p:spPr>
                <a:xfrm flipH="1" flipV="1" rot="6727200">
                  <a:off x="5339520" y="461592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 rot="7542600">
                  <a:off x="5249880" y="45748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 rot="7838400">
                  <a:off x="5204880" y="453816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 rot="8370600">
                  <a:off x="5154120" y="449352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"/>
          <p:cNvGrpSpPr/>
          <p:nvPr/>
        </p:nvGrpSpPr>
        <p:grpSpPr>
          <a:xfrm>
            <a:off x="7264800" y="4440240"/>
            <a:ext cx="1117080" cy="724320"/>
            <a:chOff x="7264800" y="4440240"/>
            <a:chExt cx="1117080" cy="724320"/>
          </a:xfrm>
        </p:grpSpPr>
        <p:grpSp>
          <p:nvGrpSpPr>
            <p:cNvPr id="611" name=""/>
            <p:cNvGrpSpPr/>
            <p:nvPr/>
          </p:nvGrpSpPr>
          <p:grpSpPr>
            <a:xfrm>
              <a:off x="7264800" y="4440240"/>
              <a:ext cx="1117080" cy="724320"/>
              <a:chOff x="7264800" y="4440240"/>
              <a:chExt cx="1117080" cy="72432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7385040" y="4659480"/>
                <a:ext cx="996840" cy="495000"/>
                <a:chOff x="7385040" y="4659480"/>
                <a:chExt cx="996840" cy="495000"/>
              </a:xfrm>
            </p:grpSpPr>
            <p:sp>
              <p:nvSpPr>
                <p:cNvPr id="613" name=""/>
                <p:cNvSpPr/>
                <p:nvPr/>
              </p:nvSpPr>
              <p:spPr>
                <a:xfrm flipH="1" flipV="1" rot="5374200">
                  <a:off x="7924680" y="459468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 rot="6189600">
                  <a:off x="7803720" y="45903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flipV="1" rot="6485400">
                  <a:off x="7736760" y="45705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flipV="1" rot="7017600">
                  <a:off x="7658280" y="454284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264800" y="4440240"/>
                <a:ext cx="906120" cy="724320"/>
                <a:chOff x="7264800" y="4440240"/>
                <a:chExt cx="906120" cy="724320"/>
              </a:xfrm>
            </p:grpSpPr>
            <p:sp>
              <p:nvSpPr>
                <p:cNvPr id="618" name=""/>
                <p:cNvSpPr/>
                <p:nvPr/>
              </p:nvSpPr>
              <p:spPr>
                <a:xfrm flipH="1" flipV="1" rot="6727200">
                  <a:off x="7705440" y="45630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flipV="1" rot="7542600">
                  <a:off x="7596000" y="45136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flipV="1" rot="7838400">
                  <a:off x="7541280" y="446904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flipV="1" rot="8370600">
                  <a:off x="7477920" y="4413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7353000" y="4512600"/>
              <a:ext cx="915120" cy="593640"/>
              <a:chOff x="7353000" y="4512600"/>
              <a:chExt cx="915120" cy="59364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7450920" y="4692240"/>
                <a:ext cx="817200" cy="405360"/>
                <a:chOff x="7450920" y="4692240"/>
                <a:chExt cx="817200" cy="405360"/>
              </a:xfrm>
            </p:grpSpPr>
            <p:sp>
              <p:nvSpPr>
                <p:cNvPr id="624" name=""/>
                <p:cNvSpPr/>
                <p:nvPr/>
              </p:nvSpPr>
              <p:spPr>
                <a:xfrm flipH="1" flipV="1" rot="5374200">
                  <a:off x="7893720" y="46386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 rot="6189600">
                  <a:off x="7794360" y="463572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flipV="1" rot="6485400">
                  <a:off x="7738560" y="461880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flipV="1" rot="7017600">
                  <a:off x="7674840" y="459720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353000" y="4512600"/>
                <a:ext cx="742320" cy="593640"/>
                <a:chOff x="7353000" y="4512600"/>
                <a:chExt cx="742320" cy="593640"/>
              </a:xfrm>
            </p:grpSpPr>
            <p:sp>
              <p:nvSpPr>
                <p:cNvPr id="629" name=""/>
                <p:cNvSpPr/>
                <p:nvPr/>
              </p:nvSpPr>
              <p:spPr>
                <a:xfrm flipH="1" flipV="1" rot="6727200">
                  <a:off x="7714440" y="461268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flipV="1" rot="7542600">
                  <a:off x="7624080" y="4572720"/>
                  <a:ext cx="15264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 flipV="1" rot="7838400">
                  <a:off x="7579440" y="453636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 flipV="1" rot="8370600">
                  <a:off x="7527240" y="4491000"/>
                  <a:ext cx="15300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3" name=""/>
          <p:cNvGrpSpPr/>
          <p:nvPr/>
        </p:nvGrpSpPr>
        <p:grpSpPr>
          <a:xfrm>
            <a:off x="6464520" y="1914120"/>
            <a:ext cx="1028880" cy="843120"/>
            <a:chOff x="6464520" y="1914120"/>
            <a:chExt cx="1028880" cy="843120"/>
          </a:xfrm>
        </p:grpSpPr>
        <p:grpSp>
          <p:nvGrpSpPr>
            <p:cNvPr id="634" name=""/>
            <p:cNvGrpSpPr/>
            <p:nvPr/>
          </p:nvGrpSpPr>
          <p:grpSpPr>
            <a:xfrm>
              <a:off x="6464520" y="1914120"/>
              <a:ext cx="1028880" cy="843120"/>
              <a:chOff x="6464520" y="1914120"/>
              <a:chExt cx="1028880" cy="84312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6464520" y="1914120"/>
                <a:ext cx="966240" cy="615600"/>
                <a:chOff x="6464520" y="1914120"/>
                <a:chExt cx="966240" cy="615600"/>
              </a:xfrm>
            </p:grpSpPr>
            <p:sp>
              <p:nvSpPr>
                <p:cNvPr id="636" name=""/>
                <p:cNvSpPr/>
                <p:nvPr/>
              </p:nvSpPr>
              <p:spPr>
                <a:xfrm flipH="1" flipV="1" rot="16891800">
                  <a:off x="6746400" y="17607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flipV="1" rot="17707200">
                  <a:off x="6863400" y="178848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flipV="1" rot="18003000">
                  <a:off x="6924960" y="182232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flipV="1" rot="18535200">
                  <a:off x="6996240" y="186480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92760" y="1919520"/>
                <a:ext cx="800640" cy="837720"/>
                <a:chOff x="6692760" y="1919520"/>
                <a:chExt cx="800640" cy="837720"/>
              </a:xfrm>
            </p:grpSpPr>
            <p:sp>
              <p:nvSpPr>
                <p:cNvPr id="641" name=""/>
                <p:cNvSpPr/>
                <p:nvPr/>
              </p:nvSpPr>
              <p:spPr>
                <a:xfrm flipH="1" flipV="1" rot="18244800">
                  <a:off x="6952320" y="18367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flipV="1" rot="19060800">
                  <a:off x="7049880" y="190800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 rot="19356000">
                  <a:off x="7093800" y="196308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flipV="1" rot="19888200">
                  <a:off x="7144200" y="20296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6574680" y="1983600"/>
              <a:ext cx="843120" cy="690120"/>
              <a:chOff x="6574680" y="1983600"/>
              <a:chExt cx="843120" cy="69012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574680" y="1983600"/>
                <a:ext cx="792000" cy="503640"/>
                <a:chOff x="6574680" y="1983600"/>
                <a:chExt cx="792000" cy="503640"/>
              </a:xfrm>
            </p:grpSpPr>
            <p:sp>
              <p:nvSpPr>
                <p:cNvPr id="647" name=""/>
                <p:cNvSpPr/>
                <p:nvPr/>
              </p:nvSpPr>
              <p:spPr>
                <a:xfrm flipH="1" flipV="1" rot="16891800">
                  <a:off x="6805800" y="185688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 flipV="1" rot="17707200">
                  <a:off x="6901200" y="188064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flipV="1" rot="18003000">
                  <a:off x="6952320" y="190872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flipV="1" rot="18535200">
                  <a:off x="7011000" y="194292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6762240" y="1986480"/>
                <a:ext cx="655560" cy="687240"/>
                <a:chOff x="6762240" y="1986480"/>
                <a:chExt cx="655560" cy="687240"/>
              </a:xfrm>
            </p:grpSpPr>
            <p:sp>
              <p:nvSpPr>
                <p:cNvPr id="652" name=""/>
                <p:cNvSpPr/>
                <p:nvPr/>
              </p:nvSpPr>
              <p:spPr>
                <a:xfrm flipH="1" flipV="1" rot="18244800">
                  <a:off x="6974640" y="191844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9060800">
                  <a:off x="7054920" y="1976760"/>
                  <a:ext cx="15264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19356000">
                  <a:off x="7090560" y="202320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19888200">
                  <a:off x="7131600" y="2077560"/>
                  <a:ext cx="15300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6" name=""/>
          <p:cNvGrpSpPr/>
          <p:nvPr/>
        </p:nvGrpSpPr>
        <p:grpSpPr>
          <a:xfrm>
            <a:off x="7759440" y="3713040"/>
            <a:ext cx="972000" cy="905400"/>
            <a:chOff x="7759440" y="3713040"/>
            <a:chExt cx="972000" cy="905400"/>
          </a:xfrm>
        </p:grpSpPr>
        <p:grpSp>
          <p:nvGrpSpPr>
            <p:cNvPr id="657" name=""/>
            <p:cNvGrpSpPr/>
            <p:nvPr/>
          </p:nvGrpSpPr>
          <p:grpSpPr>
            <a:xfrm>
              <a:off x="7759440" y="3713040"/>
              <a:ext cx="972000" cy="905400"/>
              <a:chOff x="7759440" y="3713040"/>
              <a:chExt cx="972000" cy="9054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7759440" y="3713040"/>
                <a:ext cx="938520" cy="677160"/>
                <a:chOff x="7759440" y="3713040"/>
                <a:chExt cx="938520" cy="677160"/>
              </a:xfrm>
            </p:grpSpPr>
            <p:sp>
              <p:nvSpPr>
                <p:cNvPr id="659" name=""/>
                <p:cNvSpPr/>
                <p:nvPr/>
              </p:nvSpPr>
              <p:spPr>
                <a:xfrm flipH="1" flipV="1" rot="17235600">
                  <a:off x="8041680" y="357444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 rot="18051600">
                  <a:off x="8155800" y="361512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 flipV="1" rot="18346800">
                  <a:off x="8212680" y="3654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flipV="1" rot="18879000">
                  <a:off x="8280360" y="37040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7994160" y="3730320"/>
                <a:ext cx="737280" cy="888120"/>
                <a:chOff x="7994160" y="3730320"/>
                <a:chExt cx="737280" cy="888120"/>
              </a:xfrm>
            </p:grpSpPr>
            <p:sp>
              <p:nvSpPr>
                <p:cNvPr id="664" name=""/>
                <p:cNvSpPr/>
                <p:nvPr/>
              </p:nvSpPr>
              <p:spPr>
                <a:xfrm flipH="1" flipV="1" rot="18588600">
                  <a:off x="8240040" y="367092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flipV="1" rot="19404600">
                  <a:off x="8329320" y="375156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flipV="1" rot="19699800">
                  <a:off x="8366760" y="381132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 flipV="1" rot="20232000">
                  <a:off x="8411040" y="38829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8" name=""/>
            <p:cNvGrpSpPr/>
            <p:nvPr/>
          </p:nvGrpSpPr>
          <p:grpSpPr>
            <a:xfrm>
              <a:off x="7867440" y="3788280"/>
              <a:ext cx="795600" cy="740520"/>
              <a:chOff x="7867440" y="3788280"/>
              <a:chExt cx="795600" cy="74052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7867440" y="3788280"/>
                <a:ext cx="768600" cy="554400"/>
                <a:chOff x="7867440" y="3788280"/>
                <a:chExt cx="768600" cy="554400"/>
              </a:xfrm>
            </p:grpSpPr>
            <p:sp>
              <p:nvSpPr>
                <p:cNvPr id="670" name=""/>
                <p:cNvSpPr/>
                <p:nvPr/>
              </p:nvSpPr>
              <p:spPr>
                <a:xfrm flipH="1" flipV="1" rot="17235600">
                  <a:off x="8098560" y="36745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flipV="1" rot="18051600">
                  <a:off x="8191800" y="37069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 flipV="1" rot="18346800">
                  <a:off x="8239680" y="374004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 flipV="1" rot="18879000">
                  <a:off x="8294040" y="37807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8059680" y="3802320"/>
                <a:ext cx="603360" cy="726480"/>
                <a:chOff x="8059680" y="3802320"/>
                <a:chExt cx="603360" cy="726480"/>
              </a:xfrm>
            </p:grpSpPr>
            <p:sp>
              <p:nvSpPr>
                <p:cNvPr id="675" name=""/>
                <p:cNvSpPr/>
                <p:nvPr/>
              </p:nvSpPr>
              <p:spPr>
                <a:xfrm flipH="1" flipV="1" rot="18588600">
                  <a:off x="8260560" y="37530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 rot="19404600">
                  <a:off x="8334360" y="38196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flipV="1" rot="19699800">
                  <a:off x="8364960" y="38682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flipV="1" rot="20232000">
                  <a:off x="8400600" y="392652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9" name=""/>
          <p:cNvGrpSpPr/>
          <p:nvPr/>
        </p:nvGrpSpPr>
        <p:grpSpPr>
          <a:xfrm>
            <a:off x="5349240" y="3693600"/>
            <a:ext cx="1020960" cy="920160"/>
            <a:chOff x="5349240" y="3693600"/>
            <a:chExt cx="1020960" cy="920160"/>
          </a:xfrm>
        </p:grpSpPr>
        <p:grpSp>
          <p:nvGrpSpPr>
            <p:cNvPr id="680" name=""/>
            <p:cNvGrpSpPr/>
            <p:nvPr/>
          </p:nvGrpSpPr>
          <p:grpSpPr>
            <a:xfrm>
              <a:off x="5349240" y="3693600"/>
              <a:ext cx="981720" cy="892800"/>
              <a:chOff x="5349240" y="3693600"/>
              <a:chExt cx="981720" cy="89280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5349240" y="3693600"/>
                <a:ext cx="981720" cy="892800"/>
                <a:chOff x="5349240" y="3693600"/>
                <a:chExt cx="981720" cy="89280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5349240" y="3693600"/>
                  <a:ext cx="942840" cy="665280"/>
                  <a:chOff x="5349240" y="3693600"/>
                  <a:chExt cx="942840" cy="66528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flipH="1" flipV="1" rot="17172600">
                    <a:off x="5631120" y="355212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flipV="1" rot="17988600">
                    <a:off x="5745600" y="35902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flipV="1" rot="18283800">
                    <a:off x="5803920" y="362952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 rot="18816000">
                    <a:off x="5872680" y="3677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5582520" y="3708360"/>
                  <a:ext cx="748440" cy="878040"/>
                  <a:chOff x="5582520" y="3708360"/>
                  <a:chExt cx="748440" cy="87804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 flipV="1" rot="18525600">
                    <a:off x="5830920" y="364392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flipV="1" rot="19341600">
                    <a:off x="5922360" y="3724200"/>
                    <a:ext cx="18576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flipV="1" rot="19636800">
                    <a:off x="5961240" y="3782160"/>
                    <a:ext cx="18576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flipV="1" rot="20169000">
                    <a:off x="6006240" y="385308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5457240" y="3767760"/>
                <a:ext cx="804600" cy="731520"/>
                <a:chOff x="5457240" y="3767760"/>
                <a:chExt cx="804600" cy="73152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5457240" y="3767760"/>
                  <a:ext cx="772920" cy="544320"/>
                  <a:chOff x="5457240" y="3767760"/>
                  <a:chExt cx="772920" cy="5443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 flipH="1" flipV="1" rot="17172600">
                    <a:off x="5688360" y="36514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flipV="1" rot="17988600">
                    <a:off x="5781960" y="368352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 rot="18283800">
                    <a:off x="5829840" y="371340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flipV="1" rot="18816000">
                    <a:off x="5886360" y="37540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5648760" y="3779640"/>
                  <a:ext cx="613080" cy="719640"/>
                  <a:chOff x="5648760" y="3779640"/>
                  <a:chExt cx="613080" cy="71964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 flipV="1" rot="18525600">
                    <a:off x="5852160" y="372780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 flipV="1" rot="19341600">
                    <a:off x="5927040" y="379260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flipV="1" rot="19636800">
                    <a:off x="5958720" y="383940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flipV="1" rot="20169000">
                    <a:off x="5995440" y="3897720"/>
                    <a:ext cx="15192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3" name=""/>
            <p:cNvGrpSpPr/>
            <p:nvPr/>
          </p:nvGrpSpPr>
          <p:grpSpPr>
            <a:xfrm>
              <a:off x="5388840" y="3720960"/>
              <a:ext cx="981360" cy="892800"/>
              <a:chOff x="5388840" y="3720960"/>
              <a:chExt cx="981360" cy="892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5388840" y="3720960"/>
                <a:ext cx="981360" cy="892800"/>
                <a:chOff x="5388840" y="3720960"/>
                <a:chExt cx="981360" cy="892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5388840" y="3720960"/>
                  <a:ext cx="942480" cy="664920"/>
                  <a:chOff x="5388840" y="3720960"/>
                  <a:chExt cx="942480" cy="66492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flipV="1" rot="17172600">
                    <a:off x="5670720" y="357948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flipV="1" rot="17988600">
                    <a:off x="5784840" y="36176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 rot="18283800">
                    <a:off x="5843160" y="365688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 flipV="1" rot="18816000">
                    <a:off x="5911920" y="3704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5622120" y="3735720"/>
                  <a:ext cx="748080" cy="878040"/>
                  <a:chOff x="5622120" y="3735720"/>
                  <a:chExt cx="748080" cy="87804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 flipH="1" flipV="1" rot="18525600">
                    <a:off x="5870520" y="367128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 rot="19341600">
                    <a:off x="5961600" y="3751200"/>
                    <a:ext cx="18576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 flipV="1" rot="19636800">
                    <a:off x="6000840" y="3809520"/>
                    <a:ext cx="18576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flipV="1" rot="20169000">
                    <a:off x="6045480" y="38804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5496480" y="3795120"/>
                <a:ext cx="804600" cy="731160"/>
                <a:chOff x="5496480" y="3795120"/>
                <a:chExt cx="804600" cy="731160"/>
              </a:xfrm>
            </p:grpSpPr>
            <p:grpSp>
              <p:nvGrpSpPr>
                <p:cNvPr id="716" name=""/>
                <p:cNvGrpSpPr/>
                <p:nvPr/>
              </p:nvGrpSpPr>
              <p:grpSpPr>
                <a:xfrm>
                  <a:off x="5496480" y="3795120"/>
                  <a:ext cx="772920" cy="544320"/>
                  <a:chOff x="5496480" y="3795120"/>
                  <a:chExt cx="772920" cy="54432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 flipH="1" flipV="1" rot="17172600">
                    <a:off x="5727600" y="367884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H="1" flipV="1" rot="17988600">
                    <a:off x="5821200" y="371088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H="1" flipV="1" rot="18283800">
                    <a:off x="5869080" y="374076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 flipV="1" rot="18816000">
                    <a:off x="5925600" y="378144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5688000" y="3807000"/>
                  <a:ext cx="613080" cy="719280"/>
                  <a:chOff x="5688000" y="3807000"/>
                  <a:chExt cx="613080" cy="7192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H="1" flipV="1" rot="18525600">
                    <a:off x="5891400" y="375516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 rot="19341600">
                    <a:off x="5966280" y="381996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flipV="1" rot="19636800">
                    <a:off x="5997960" y="386676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 rot="20169000">
                    <a:off x="6034680" y="3924720"/>
                    <a:ext cx="15192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26" name=""/>
          <p:cNvSpPr/>
          <p:nvPr/>
        </p:nvSpPr>
        <p:spPr>
          <a:xfrm>
            <a:off x="423720" y="2971800"/>
            <a:ext cx="1170000" cy="766800"/>
          </a:xfrm>
          <a:prstGeom prst="rect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23720" y="3765600"/>
            <a:ext cx="1170000" cy="766800"/>
          </a:xfrm>
          <a:prstGeom prst="rect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23720" y="4565520"/>
            <a:ext cx="1170000" cy="766800"/>
          </a:xfrm>
          <a:prstGeom prst="rect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5640" y="396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虹口区政府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43320" y="4757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股东单位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73280" y="3089160"/>
            <a:ext cx="30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大量优秀传统出版资源的积累，数字出版发展的领头羊地位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73280" y="3878280"/>
            <a:ext cx="30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独立招商主体，地方财力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50%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的税收扶持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673280" y="4687920"/>
            <a:ext cx="30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微软雅黑"/>
              </a:rPr>
              <a:t>与众多科技单位良好的合作关系。科技开发、交流服务。园区管理经验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51840" y="241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出版集团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74640" y="424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虹口区政府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631280" y="422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股东单位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16040" y="19414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多方优势资源集聚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2680" y="3227400"/>
            <a:ext cx="13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出版集团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税收政策示例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57200" y="1528920"/>
          <a:ext cx="8229600" cy="4000320"/>
        </p:xfrm>
        <a:graphic>
          <a:graphicData uri="http://schemas.openxmlformats.org/drawingml/2006/table">
            <a:tbl>
              <a:tblPr/>
              <a:tblGrid>
                <a:gridCol w="851040"/>
                <a:gridCol w="1182600"/>
                <a:gridCol w="1376280"/>
                <a:gridCol w="1901880"/>
                <a:gridCol w="291780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税种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总量（</a:t>
                      </a:r>
                      <a:r>
                        <a:rPr b="1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万为例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地方所得（上海市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区所得（虹口区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企业实得（万元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25%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25%×60%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25%×60%×50%=7.5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营业税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100%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100%×60%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100%×60%×50%=3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所得税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40%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40%×60%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c414f"/>
                          </a:solidFill>
                          <a:latin typeface="Arial"/>
                          <a:ea typeface="宋体"/>
                        </a:rPr>
                        <a:t>100×40%×60%×50%=12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922320" y="576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09640" y="5675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目标企业可独享一事一议政策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89040" y="2563920"/>
            <a:ext cx="7740720" cy="61884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2280" y="2535120"/>
            <a:ext cx="2053800" cy="618840"/>
            <a:chOff x="692280" y="2535120"/>
            <a:chExt cx="2053800" cy="618840"/>
          </a:xfrm>
        </p:grpSpPr>
        <p:sp>
          <p:nvSpPr>
            <p:cNvPr id="745" name=""/>
            <p:cNvSpPr/>
            <p:nvPr/>
          </p:nvSpPr>
          <p:spPr>
            <a:xfrm>
              <a:off x="692280" y="2535120"/>
              <a:ext cx="1912680" cy="618840"/>
            </a:xfrm>
            <a:prstGeom prst="rect">
              <a:avLst/>
            </a:prstGeom>
            <a:solidFill>
              <a:srgbClr val="b244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400000">
              <a:off x="2506320" y="27543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b244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60676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自己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4240" y="2641680"/>
            <a:ext cx="183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有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7816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b24476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57600" y="266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自主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0712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b24476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45160" y="266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自身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88920" y="3284640"/>
            <a:ext cx="1114560" cy="1114200"/>
          </a:xfrm>
          <a:prstGeom prst="diamond">
            <a:avLst/>
          </a:prstGeom>
          <a:solidFill>
            <a:srgbClr val="b24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7036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60800" y="328464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04080" y="3284640"/>
            <a:ext cx="111456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757" name=""/>
          <p:cNvCxnSpPr>
            <a:stCxn id="753" idx="3"/>
            <a:endCxn id="754" idx="1"/>
          </p:cNvCxnSpPr>
          <p:nvPr/>
        </p:nvCxnSpPr>
        <p:spPr>
          <a:xfrm>
            <a:off x="2103480" y="38415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58" name=""/>
          <p:cNvCxnSpPr>
            <a:stCxn id="754" idx="3"/>
            <a:endCxn id="755" idx="1"/>
          </p:cNvCxnSpPr>
          <p:nvPr/>
        </p:nvCxnSpPr>
        <p:spPr>
          <a:xfrm>
            <a:off x="4084560" y="38415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59" name=""/>
          <p:cNvCxnSpPr>
            <a:stCxn id="755" idx="3"/>
            <a:endCxn id="756" idx="1"/>
          </p:cNvCxnSpPr>
          <p:nvPr/>
        </p:nvCxnSpPr>
        <p:spPr>
          <a:xfrm>
            <a:off x="6075360" y="38415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760" name=""/>
          <p:cNvSpPr/>
          <p:nvPr/>
        </p:nvSpPr>
        <p:spPr>
          <a:xfrm>
            <a:off x="10922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土地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5928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开发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05152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管理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0214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资源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35120" y="4489560"/>
            <a:ext cx="16142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发挥空间大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耐得住寂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678040" y="4489560"/>
            <a:ext cx="16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实事求是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循序渐进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92600" y="4489560"/>
            <a:ext cx="18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契合企业需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方整合资源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40560" y="4489560"/>
            <a:ext cx="1785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身资源入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领示范效应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317600" y="1695600"/>
            <a:ext cx="63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长期、持续发展的有力保证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管理优势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571920" y="1235160"/>
            <a:ext cx="474660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5c414f"/>
                </a:solidFill>
                <a:effectLst>
                  <a:outerShdw dist="153753" dir="2700000" blurRad="0" rotWithShape="0">
                    <a:srgbClr val="333333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5c414f"/>
              </a:solidFill>
              <a:effectLst>
                <a:outerShdw dist="153753" dir="2700000" blurRad="0" rotWithShape="0">
                  <a:srgbClr val="3333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2070000"/>
            <a:ext cx="32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www.bluebridgpark.com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584720" y="445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微软雅黑"/>
                <a:ea typeface="微软雅黑"/>
              </a:rPr>
              <a:t>我们期待您的加入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Arial"/>
                <a:ea typeface="宋体"/>
              </a:rPr>
              <a:t>                        </a:t>
            </a:r>
            <a:r>
              <a:rPr b="1" lang="zh-CN" sz="6000" spc="-1" strike="noStrike">
                <a:solidFill>
                  <a:srgbClr val="fb7609"/>
                </a:solidFill>
                <a:latin typeface="Arial"/>
                <a:ea typeface="宋体"/>
              </a:rPr>
              <a:t>背 景 简 介</a:t>
            </a:r>
            <a:endParaRPr b="1" lang="en-US" sz="60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34920"/>
            <a:ext cx="6043680" cy="53946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77960" y="5129280"/>
            <a:ext cx="668160" cy="127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 rot="3125400">
            <a:off x="6678000" y="2345760"/>
            <a:ext cx="96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13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4718000">
            <a:off x="2450880" y="3493440"/>
            <a:ext cx="98280" cy="157788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7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692520" y="3699000"/>
            <a:ext cx="1012680" cy="20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 rot="3125400">
            <a:off x="3366360" y="3840120"/>
            <a:ext cx="106200" cy="4788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13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032680" y="149688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6883560" y="235908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38960" y="3375000"/>
            <a:ext cx="25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国家级出版机构。囊括了中国最悠久最著名的出版机构 </a:t>
            </a:r>
            <a:r>
              <a:rPr b="0" lang="en-US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家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拥有最丰富的出版和文化积累，在中国具有最强大的影响力 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以出版物生产和销售为主业，经营多元化的大型企业集团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24560" y="3559320"/>
            <a:ext cx="0" cy="809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2880" y="2033640"/>
            <a:ext cx="0" cy="90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82800"/>
            <a:ext cx="2506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中国出版集团公司所属成员单位之一。主要从事文化产品的进出口。国内设有</a:t>
            </a:r>
            <a:r>
              <a:rPr b="0" lang="en-US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多家子公司，在海外设有</a:t>
            </a:r>
            <a:r>
              <a:rPr b="0" lang="en-US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家分支机构 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5365800"/>
            <a:ext cx="0" cy="72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1320" y="5329080"/>
            <a:ext cx="30733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公司成立于</a:t>
            </a:r>
            <a:r>
              <a:rPr b="0" lang="en-US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1985</a:t>
            </a: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年。是中国图书进出口（集团）总公司在上海设立的分支机构。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015680" y="817560"/>
            <a:ext cx="1394280" cy="1633680"/>
            <a:chOff x="7015680" y="817560"/>
            <a:chExt cx="1394280" cy="1633680"/>
          </a:xfrm>
        </p:grpSpPr>
        <p:sp>
          <p:nvSpPr>
            <p:cNvPr id="133" name=""/>
            <p:cNvSpPr/>
            <p:nvPr/>
          </p:nvSpPr>
          <p:spPr>
            <a:xfrm rot="291600">
              <a:off x="7601400" y="830880"/>
              <a:ext cx="331920" cy="32400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91600">
              <a:off x="7077960" y="87552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796200" y="2805120"/>
            <a:ext cx="784080" cy="917280"/>
            <a:chOff x="3796200" y="2805120"/>
            <a:chExt cx="784080" cy="917280"/>
          </a:xfrm>
        </p:grpSpPr>
        <p:sp>
          <p:nvSpPr>
            <p:cNvPr id="136" name=""/>
            <p:cNvSpPr/>
            <p:nvPr/>
          </p:nvSpPr>
          <p:spPr>
            <a:xfrm rot="291600">
              <a:off x="4125240" y="2812680"/>
              <a:ext cx="186840" cy="1818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91600">
              <a:off x="3830760" y="2837520"/>
              <a:ext cx="714240" cy="855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568920" y="149688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03960" y="4668480"/>
            <a:ext cx="412560" cy="476640"/>
            <a:chOff x="903960" y="4668480"/>
            <a:chExt cx="412560" cy="476640"/>
          </a:xfrm>
        </p:grpSpPr>
        <p:sp>
          <p:nvSpPr>
            <p:cNvPr id="140" name=""/>
            <p:cNvSpPr/>
            <p:nvPr/>
          </p:nvSpPr>
          <p:spPr>
            <a:xfrm rot="363600">
              <a:off x="1081440" y="4674240"/>
              <a:ext cx="96120" cy="93600"/>
            </a:xfrm>
            <a:prstGeom prst="ellipse">
              <a:avLst/>
            </a:prstGeom>
            <a:solidFill>
              <a:srgbClr val="cc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63600">
              <a:off x="925920" y="4686480"/>
              <a:ext cx="368280" cy="4402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65360" y="3111480"/>
            <a:ext cx="1463400" cy="379080"/>
            <a:chOff x="3465360" y="3111480"/>
            <a:chExt cx="1463400" cy="379080"/>
          </a:xfrm>
        </p:grpSpPr>
        <p:sp>
          <p:nvSpPr>
            <p:cNvPr id="143" name=""/>
            <p:cNvSpPr/>
            <p:nvPr/>
          </p:nvSpPr>
          <p:spPr>
            <a:xfrm flipH="1">
              <a:off x="4378680" y="311148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5360" y="312120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85720" y="4827600"/>
            <a:ext cx="979560" cy="204480"/>
            <a:chOff x="585720" y="4827600"/>
            <a:chExt cx="979560" cy="204480"/>
          </a:xfrm>
        </p:grpSpPr>
        <p:sp>
          <p:nvSpPr>
            <p:cNvPr id="146" name=""/>
            <p:cNvSpPr/>
            <p:nvPr/>
          </p:nvSpPr>
          <p:spPr>
            <a:xfrm flipH="1">
              <a:off x="1197360" y="482760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5720" y="483264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背景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4718000">
            <a:off x="5781240" y="2009520"/>
            <a:ext cx="9828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7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496200" y="2602080"/>
            <a:ext cx="22860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247920" y="3997440"/>
            <a:ext cx="2314800" cy="57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9880" y="5359320"/>
            <a:ext cx="169416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rot="21175800">
            <a:off x="517680" y="2658600"/>
            <a:ext cx="1812600" cy="233676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14400" y="2532240"/>
            <a:ext cx="4784760" cy="30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30303"/>
                </a:gs>
                <a:gs pos="50000">
                  <a:srgbClr val="080808">
                    <a:alpha val="50196"/>
                  </a:srgbClr>
                </a:gs>
                <a:gs pos="100000">
                  <a:srgbClr val="0303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165" name="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9" name="" descr=""/>
            <p:cNvPicPr/>
            <p:nvPr/>
          </p:nvPicPr>
          <p:blipFill>
            <a:blip r:embed="rId2"/>
            <a:srcRect l="0" t="23777" r="0" b="0"/>
            <a:stretch/>
          </p:blipFill>
          <p:spPr>
            <a:xfrm rot="19029600">
              <a:off x="1922040" y="5385600"/>
              <a:ext cx="14328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30303"/>
                </a:gs>
                <a:gs pos="50000">
                  <a:srgbClr val="080808">
                    <a:alpha val="50196"/>
                  </a:srgbClr>
                </a:gs>
                <a:gs pos="100000">
                  <a:srgbClr val="0303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175" name="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180" name="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4" name="" descr=""/>
            <p:cNvPicPr/>
            <p:nvPr/>
          </p:nvPicPr>
          <p:blipFill>
            <a:blip r:embed="rId4"/>
            <a:srcRect l="0" t="23777" r="0" b="0"/>
            <a:stretch/>
          </p:blipFill>
          <p:spPr>
            <a:xfrm rot="19029600">
              <a:off x="3604680" y="4290120"/>
              <a:ext cx="14328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30303"/>
                </a:gs>
                <a:gs pos="50000">
                  <a:srgbClr val="080808">
                    <a:alpha val="50196"/>
                  </a:srgbClr>
                </a:gs>
                <a:gs pos="100000">
                  <a:srgbClr val="0303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190" name="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9" name="" descr=""/>
            <p:cNvPicPr/>
            <p:nvPr/>
          </p:nvPicPr>
          <p:blipFill>
            <a:blip r:embed="rId6"/>
            <a:srcRect l="0" t="23777" r="0" b="0"/>
            <a:stretch/>
          </p:blipFill>
          <p:spPr>
            <a:xfrm rot="19029600">
              <a:off x="5213160" y="3291120"/>
              <a:ext cx="14292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6556320" y="2370960"/>
            <a:ext cx="216000" cy="219600"/>
            <a:chOff x="6556320" y="2370960"/>
            <a:chExt cx="216000" cy="219600"/>
          </a:xfrm>
        </p:grpSpPr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6579000" y="23907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579000" y="23907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591960" y="2522160"/>
              <a:ext cx="170280" cy="68400"/>
              <a:chOff x="6591960" y="2522160"/>
              <a:chExt cx="170280" cy="684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622200" y="2522160"/>
                <a:ext cx="140040" cy="64080"/>
                <a:chOff x="6622200" y="2522160"/>
                <a:chExt cx="140040" cy="64080"/>
              </a:xfrm>
            </p:grpSpPr>
            <p:sp>
              <p:nvSpPr>
                <p:cNvPr id="205" name=""/>
                <p:cNvSpPr/>
                <p:nvPr/>
              </p:nvSpPr>
              <p:spPr>
                <a:xfrm flipH="1" flipV="1" rot="3964800">
                  <a:off x="6697800" y="25030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 rot="4780200">
                  <a:off x="6682320" y="25095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 rot="5076000">
                  <a:off x="6672600" y="25110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 rot="5608200">
                  <a:off x="6661440" y="25120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6591960" y="2522880"/>
                <a:ext cx="140760" cy="67680"/>
                <a:chOff x="6591960" y="2522880"/>
                <a:chExt cx="140760" cy="6768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flipV="1" rot="5317800">
                  <a:off x="6668280" y="25117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6133800">
                  <a:off x="6651360" y="25120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 rot="6429000">
                  <a:off x="6642000" y="2508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 rot="6961200">
                  <a:off x="6630120" y="25056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4" name="" descr=""/>
            <p:cNvPicPr/>
            <p:nvPr/>
          </p:nvPicPr>
          <p:blipFill>
            <a:blip r:embed="rId8"/>
            <a:srcRect l="0" t="23777" r="0" b="0"/>
            <a:stretch/>
          </p:blipFill>
          <p:spPr>
            <a:xfrm rot="19029600">
              <a:off x="6568560" y="2407320"/>
              <a:ext cx="143280" cy="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0227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前身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87640" y="393372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 2002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年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93920" y="2930400"/>
            <a:ext cx="26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 2007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年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28960" y="54784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图上海公司下属竟成印刷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文献资料的印刷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47960" y="4383000"/>
            <a:ext cx="3094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转轨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为虹口区高科技孵化基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1120" y="34178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园区全面改造项目启动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创意产业园方向转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发展历程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6815160" y="1382760"/>
            <a:ext cx="200664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管理服务机构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130480" y="1986120"/>
            <a:ext cx="4905360" cy="2425320"/>
            <a:chOff x="2130480" y="1986120"/>
            <a:chExt cx="4905360" cy="2425320"/>
          </a:xfrm>
        </p:grpSpPr>
        <p:sp>
          <p:nvSpPr>
            <p:cNvPr id="228" name=""/>
            <p:cNvSpPr/>
            <p:nvPr/>
          </p:nvSpPr>
          <p:spPr>
            <a:xfrm>
              <a:off x="2130480" y="2136240"/>
              <a:ext cx="4905360" cy="227520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0480" y="1994040"/>
              <a:ext cx="4905360" cy="227520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ec9f14"/>
                </a:gs>
                <a:gs pos="50000">
                  <a:srgbClr val="b24476"/>
                </a:gs>
                <a:gs pos="100000">
                  <a:srgbClr val="ec9f1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63000" y="1986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64760" y="2636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600" y="2617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961600" y="2403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671920" y="2412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6120" y="381564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3480" y="376272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237840" y="4082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169680" y="3994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689280" y="1812960"/>
            <a:ext cx="0" cy="43668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1768320"/>
            <a:ext cx="0" cy="4813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68840" y="4111560"/>
            <a:ext cx="0" cy="5349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640200" y="307512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3320" y="307512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67040" y="137808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微软雅黑"/>
              </a:rPr>
              <a:t>虹口科技创业中心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1440" y="1378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微软雅黑"/>
              </a:rPr>
              <a:t>上海科技发展总公司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18360" y="291132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微软雅黑"/>
              </a:rPr>
              <a:t>杨浦科技创业中心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4667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微软雅黑"/>
              </a:rPr>
              <a:t>中图上海公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14280" y="2911320"/>
            <a:ext cx="24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微软雅黑"/>
              </a:rPr>
              <a:t>深圳兴中图投资公司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0440" y="2689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Arial"/>
                <a:ea typeface="宋体"/>
              </a:rPr>
              <a:t>上海中图文化创意产业管理投资有限公司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82920" y="2544840"/>
            <a:ext cx="2340000" cy="66348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2330" y="10769"/>
                </a:moveTo>
                <a:arcTo wR="-8470" hR="-8470" stAng="-10787419" swAng="-10704052"/>
                <a:lnTo>
                  <a:pt x="5" y="10459"/>
                </a:lnTo>
                <a:arcTo wR="10800" hR="10800" stAng="-10691471" swAng="10704052"/>
                <a:lnTo>
                  <a:pt x="24300" y="10849"/>
                </a:lnTo>
                <a:lnTo>
                  <a:pt x="20421" y="14700"/>
                </a:lnTo>
                <a:lnTo>
                  <a:pt x="16570" y="10821"/>
                </a:lnTo>
                <a:close/>
              </a:path>
            </a:pathLst>
          </a:custGeom>
          <a:gradFill rotWithShape="0">
            <a:gsLst>
              <a:gs pos="0">
                <a:srgbClr val="939932"/>
              </a:gs>
              <a:gs pos="100000">
                <a:srgbClr val="4f53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461760" y="3176640"/>
            <a:ext cx="2392200" cy="620640"/>
          </a:xfrm>
          <a:custGeom>
            <a:avLst/>
            <a:gdLst>
              <a:gd name="textAreaLeft" fmla="*/ -360 w 2392200"/>
              <a:gd name="textAreaRight" fmla="*/ 2392200 w 239220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2226" y="10832"/>
                </a:moveTo>
                <a:arcTo wR="-8574" hR="-8574" stAng="10787169" swAng="-10678640"/>
                <a:lnTo>
                  <a:pt x="5" y="10459"/>
                </a:lnTo>
                <a:arcTo wR="10800" hR="10800" stAng="-10691471" swAng="10678640"/>
                <a:lnTo>
                  <a:pt x="24300" y="10750"/>
                </a:lnTo>
                <a:lnTo>
                  <a:pt x="20501" y="14577"/>
                </a:lnTo>
                <a:lnTo>
                  <a:pt x="16674" y="10778"/>
                </a:lnTo>
                <a:close/>
              </a:path>
            </a:pathLst>
          </a:custGeom>
          <a:gradFill rotWithShape="0">
            <a:gsLst>
              <a:gs pos="0">
                <a:srgbClr val="939932"/>
              </a:gs>
              <a:gs pos="100000">
                <a:srgbClr val="6165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880" y="5367240"/>
            <a:ext cx="84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另成立上海中图物业管理有限公司负责园区的物业服务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3200" y="5292720"/>
            <a:ext cx="836460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Arial"/>
                <a:ea typeface="宋体"/>
              </a:rPr>
              <a:t>                      </a:t>
            </a:r>
            <a:r>
              <a:rPr b="1" lang="zh-CN" sz="6000" spc="-1" strike="noStrike">
                <a:solidFill>
                  <a:srgbClr val="823653"/>
                </a:solidFill>
                <a:latin typeface="Arial"/>
                <a:ea typeface="宋体"/>
              </a:rPr>
              <a:t>园 区 概 貌</a:t>
            </a:r>
            <a:endParaRPr b="1" lang="en-US" sz="60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区域位置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271520"/>
            <a:ext cx="6764400" cy="4818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489800" y="2109960"/>
            <a:ext cx="98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16600" y="1303200"/>
            <a:ext cx="21402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● 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轨道交通</a:t>
            </a:r>
            <a:r>
              <a:rPr b="0" lang="en-US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号线大柏树站步行</a:t>
            </a:r>
            <a:r>
              <a:rPr b="0" lang="en-US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分钟到达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●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逸仙路高架</a:t>
            </a:r>
            <a:r>
              <a:rPr b="0" lang="en-US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分钟车程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●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周边</a:t>
            </a:r>
            <a:r>
              <a:rPr b="0" lang="en-US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27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条公交线路环绕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●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毗邻五角场商圈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●</a:t>
            </a:r>
            <a:r>
              <a:rPr b="0" lang="zh-CN" sz="2000" spc="-1" strike="noStrike">
                <a:solidFill>
                  <a:srgbClr val="1c1c1c"/>
                </a:solidFill>
                <a:latin typeface="微软雅黑"/>
                <a:ea typeface="微软雅黑"/>
              </a:rPr>
              <a:t>周边同济、复旦、财大、上外等名校云集。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080" y="68040"/>
            <a:ext cx="831204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80808"/>
                </a:solidFill>
                <a:latin typeface="Arial"/>
                <a:ea typeface="宋体"/>
              </a:rPr>
              <a:t>园区全貌</a:t>
            </a:r>
            <a:endParaRPr b="1" lang="en-US" sz="4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4200" y="982800"/>
            <a:ext cx="7974000" cy="5100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600" y="608976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园区鸟瞰图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4:56:11Z</dcterms:created>
  <dc:creator>微软用户</dc:creator>
  <dc:description/>
  <dc:language>en-US</dc:language>
  <cp:lastModifiedBy>雨林木风</cp:lastModifiedBy>
  <dcterms:modified xsi:type="dcterms:W3CDTF">2009-05-13T06:32:02Z</dcterms:modified>
  <cp:revision>58</cp:revision>
  <dc:subject/>
  <dc:title>幻灯片 1</dc:title>
</cp:coreProperties>
</file>